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1414-65CC-431C-99D5-23D23A95C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09480" y="1514520"/>
            <a:ext cx="742140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09480" y="4068720"/>
            <a:ext cx="742140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72B4-86D5-4FA2-8497-EA9669325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09480" y="1514520"/>
            <a:ext cx="362160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12520" y="1514520"/>
            <a:ext cx="362160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09480" y="4068720"/>
            <a:ext cx="362160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12520" y="4068720"/>
            <a:ext cx="362160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FAA4-C0BE-4B8F-93B6-FA6D0DA1A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09480" y="1514520"/>
            <a:ext cx="238932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18680" y="1514520"/>
            <a:ext cx="238932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7880" y="1514520"/>
            <a:ext cx="238932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09480" y="4068720"/>
            <a:ext cx="238932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18680" y="4068720"/>
            <a:ext cx="238932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7880" y="4068720"/>
            <a:ext cx="238932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777D-0FB9-4075-AA86-836F305A5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CFB0C-4E49-495B-BAF3-0F0B15CCA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09480" y="1514520"/>
            <a:ext cx="7421400" cy="48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249C3-D291-4A85-B960-577DA1AA6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09480" y="1514520"/>
            <a:ext cx="742140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171A6-F945-4893-9407-020AA1A63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09480" y="1514520"/>
            <a:ext cx="362160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12520" y="1514520"/>
            <a:ext cx="362160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B28C2-37EC-4FEA-84FE-EC8E2C5F7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C4CEA-EA1A-4254-9366-1A564E499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50236-90E6-4A15-9FCF-019574DBA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09480" y="1514520"/>
            <a:ext cx="362160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12520" y="1514520"/>
            <a:ext cx="362160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509480" y="4068720"/>
            <a:ext cx="362160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C72F8-B8A8-4D43-BA18-9BFAE170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09480" y="1514520"/>
            <a:ext cx="7421400" cy="48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F2F5-F8E3-44AE-B291-4BD29DDD0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09480" y="1514520"/>
            <a:ext cx="362160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12520" y="1514520"/>
            <a:ext cx="362160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12520" y="4068720"/>
            <a:ext cx="362160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AB864-EC3C-47E4-A43B-AAD3CB293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09480" y="1514520"/>
            <a:ext cx="362160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12520" y="1514520"/>
            <a:ext cx="362160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09480" y="4068720"/>
            <a:ext cx="742140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9F689-A8ED-4850-8D8F-C7E9B467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09480" y="1514520"/>
            <a:ext cx="742140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509480" y="4068720"/>
            <a:ext cx="742140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63BE3-F6E1-4718-A673-1BB96215D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09480" y="1514520"/>
            <a:ext cx="362160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12520" y="1514520"/>
            <a:ext cx="362160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509480" y="4068720"/>
            <a:ext cx="362160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312520" y="4068720"/>
            <a:ext cx="362160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F4F4D-098B-4929-BC04-F8E29EBB6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09480" y="1514520"/>
            <a:ext cx="238932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018680" y="1514520"/>
            <a:ext cx="238932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27880" y="1514520"/>
            <a:ext cx="238932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509480" y="4068720"/>
            <a:ext cx="238932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018680" y="4068720"/>
            <a:ext cx="238932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527880" y="4068720"/>
            <a:ext cx="238932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0324F-A101-4755-97F7-92A3D9BAB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789CB-DFF0-4C03-B67C-BDF979C38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509480" y="1514520"/>
            <a:ext cx="7421400" cy="48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45E1C-6CED-489A-BBCD-BC7D65EAE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09480" y="1514520"/>
            <a:ext cx="742140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7FCD6-2DFB-4495-BDEB-72E5B7552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09480" y="1514520"/>
            <a:ext cx="362160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312520" y="1514520"/>
            <a:ext cx="362160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E5B2A-56F1-49BE-8D31-44891E295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8BF20-83EC-4A22-A78A-0CF65A955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09480" y="1514520"/>
            <a:ext cx="742140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FCC7-DA45-4F0D-95E1-A8A07EF6B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1EBB1-9B6E-4587-86BC-CF0495DFF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09480" y="1514520"/>
            <a:ext cx="362160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312520" y="1514520"/>
            <a:ext cx="362160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509480" y="4068720"/>
            <a:ext cx="362160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229FE-F1B4-4B79-B538-C75C4232D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09480" y="1514520"/>
            <a:ext cx="362160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312520" y="1514520"/>
            <a:ext cx="362160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12520" y="4068720"/>
            <a:ext cx="362160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BCD64-F21B-4DF3-8619-539BDEE1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09480" y="1514520"/>
            <a:ext cx="362160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312520" y="1514520"/>
            <a:ext cx="362160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509480" y="4068720"/>
            <a:ext cx="742140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E2DC2-70F0-4879-BD21-0AD2D569B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09480" y="1514520"/>
            <a:ext cx="742140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509480" y="4068720"/>
            <a:ext cx="742140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0C93D-0426-43AB-9ADA-B20AAF5CB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09480" y="1514520"/>
            <a:ext cx="362160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12520" y="1514520"/>
            <a:ext cx="362160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509480" y="4068720"/>
            <a:ext cx="362160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312520" y="4068720"/>
            <a:ext cx="362160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156AC-D9CF-4386-B6BC-34A1C65D6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09480" y="1514520"/>
            <a:ext cx="238932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018680" y="1514520"/>
            <a:ext cx="238932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527880" y="1514520"/>
            <a:ext cx="238932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509480" y="4068720"/>
            <a:ext cx="238932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018680" y="4068720"/>
            <a:ext cx="238932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527880" y="4068720"/>
            <a:ext cx="238932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B1AFB-2BDE-4638-97CF-4BE6307B6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E2EDE-B665-4F8C-B446-4394B8CDA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509480" y="1514520"/>
            <a:ext cx="7421400" cy="48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A4B4F-4EBF-4C62-A8AF-AACF97E63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9480" y="1514520"/>
            <a:ext cx="742140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A12BA-37C5-486B-9264-19849DDBE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09480" y="1514520"/>
            <a:ext cx="362160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12520" y="1514520"/>
            <a:ext cx="362160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E2AA-E6CB-45CF-8AE8-02AE396BB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09480" y="1514520"/>
            <a:ext cx="362160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312520" y="1514520"/>
            <a:ext cx="362160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0DCDA-092D-4088-8800-17260E68F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B4A26-60FA-4E76-A68F-BEA73ADF8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5352E-93FD-4C80-B7A5-F088B48E8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09480" y="1514520"/>
            <a:ext cx="362160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312520" y="1514520"/>
            <a:ext cx="362160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509480" y="4068720"/>
            <a:ext cx="362160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06828-621E-4259-A024-ED8E27932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09480" y="1514520"/>
            <a:ext cx="362160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312520" y="1514520"/>
            <a:ext cx="362160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312520" y="4068720"/>
            <a:ext cx="362160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31A85-0B01-42E2-8AD1-544EC14A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09480" y="1514520"/>
            <a:ext cx="362160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312520" y="1514520"/>
            <a:ext cx="362160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509480" y="4068720"/>
            <a:ext cx="742140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97F9E-87D5-4DDF-B6E8-994028484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09480" y="1514520"/>
            <a:ext cx="742140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509480" y="4068720"/>
            <a:ext cx="742140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5EFDA-33EB-4C93-980B-EE0C9D686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09480" y="1514520"/>
            <a:ext cx="362160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312520" y="1514520"/>
            <a:ext cx="362160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509480" y="4068720"/>
            <a:ext cx="362160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312520" y="4068720"/>
            <a:ext cx="362160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377C1-490A-4424-B8C6-DED791FCC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09480" y="1514520"/>
            <a:ext cx="238932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018680" y="1514520"/>
            <a:ext cx="238932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527880" y="1514520"/>
            <a:ext cx="238932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509480" y="4068720"/>
            <a:ext cx="238932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018680" y="4068720"/>
            <a:ext cx="238932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527880" y="4068720"/>
            <a:ext cx="238932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6966C-D692-42D1-9D09-3BD3105BE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850F-EEFE-49A8-AFEF-8500EEFAD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71B5-4EF2-49BC-8472-DD490CB60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09480" y="1514520"/>
            <a:ext cx="362160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12520" y="1514520"/>
            <a:ext cx="362160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09480" y="4068720"/>
            <a:ext cx="362160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6653-977D-4BCD-9193-14606CE5F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09480" y="1514520"/>
            <a:ext cx="362160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12520" y="1514520"/>
            <a:ext cx="362160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12520" y="4068720"/>
            <a:ext cx="362160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60C9-F000-4A9A-9A2E-D8D38F64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09480" y="1514520"/>
            <a:ext cx="362160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12520" y="1514520"/>
            <a:ext cx="362160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09480" y="4068720"/>
            <a:ext cx="742140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C703-F5EA-41A5-B1EF-C60BB475F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09480" y="1514520"/>
            <a:ext cx="742140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Helvetica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elvetica Condensed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Helvetica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elvetica Condensed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  <a:p>
            <a:pPr lvl="2" marL="1143000" indent="-228600">
              <a:spcBef>
                <a:spcPts val="675"/>
              </a:spcBef>
              <a:buClr>
                <a:srgbClr val="000000"/>
              </a:buClr>
              <a:buFont typeface="Helvetica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elvetica Condensed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  <a:p>
            <a:pPr lvl="3" marL="1600200" indent="-228600">
              <a:spcBef>
                <a:spcPts val="675"/>
              </a:spcBef>
              <a:buClr>
                <a:srgbClr val="000000"/>
              </a:buClr>
              <a:buFont typeface="Helvetica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elvetica Condensed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  <a:p>
            <a:pPr lvl="4" marL="2057400" indent="-228600">
              <a:spcBef>
                <a:spcPts val="675"/>
              </a:spcBef>
              <a:buClr>
                <a:srgbClr val="000000"/>
              </a:buClr>
              <a:buFont typeface="Helvetica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elvetica Condensed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  <a:p>
            <a:pPr lvl="5" marL="2057400" indent="-228600">
              <a:spcBef>
                <a:spcPts val="675"/>
              </a:spcBef>
              <a:buClr>
                <a:srgbClr val="000000"/>
              </a:buClr>
              <a:buFont typeface="Helvetica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elvetica Condensed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  <a:p>
            <a:pPr lvl="6" marL="2057400" indent="-228600">
              <a:spcBef>
                <a:spcPts val="675"/>
              </a:spcBef>
              <a:buClr>
                <a:srgbClr val="000000"/>
              </a:buClr>
              <a:buFont typeface="Helvetica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elvetica Condensed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234800" y="6606720"/>
            <a:ext cx="1904760" cy="2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38160" y="6606720"/>
            <a:ext cx="2894040" cy="2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02360" y="6606720"/>
            <a:ext cx="1903680" cy="2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48702-AB69-45AF-8402-1D397544E3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4040" y="274680"/>
            <a:ext cx="815472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0" y="6606720"/>
            <a:ext cx="1905120" cy="2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06720"/>
            <a:ext cx="2895840" cy="2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38880" y="6606720"/>
            <a:ext cx="1905120" cy="2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D2B33-229D-4B77-BD5C-C01FEA86E2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0" y="-1116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440" y="137880"/>
            <a:ext cx="784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808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34800" y="1446120"/>
            <a:ext cx="790884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136440" y="6624720"/>
            <a:ext cx="1905120" cy="23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57200" y="6624720"/>
            <a:ext cx="2894040" cy="23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124760" y="6583320"/>
            <a:ext cx="1905120" cy="23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53AFA-66F3-434F-B58D-6740C63CB707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0" y="-1116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420048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8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0" y="6678720"/>
            <a:ext cx="1905120" cy="1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11"/>
          </p:nvPr>
        </p:nvSpPr>
        <p:spPr>
          <a:xfrm>
            <a:off x="3124080" y="6678720"/>
            <a:ext cx="2895840" cy="1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12"/>
          </p:nvPr>
        </p:nvSpPr>
        <p:spPr>
          <a:xfrm>
            <a:off x="7238880" y="6678720"/>
            <a:ext cx="1905120" cy="1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F728D-6322-40F7-9F17-11F8BFCB732A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2133720" y="1752480"/>
            <a:ext cx="5029200" cy="27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1523520" y="1190160"/>
            <a:ext cx="71629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Helvetica Condensed"/>
              </a:rPr>
              <a:t>Optimum Performance of ALOC</a:t>
            </a:r>
            <a:endParaRPr b="0" lang="en-US" sz="2800" spc="-1" strike="noStrike">
              <a:solidFill>
                <a:srgbClr val="000000"/>
              </a:solidFill>
              <a:latin typeface="Helvetica Condensed"/>
            </a:endParaRPr>
          </a:p>
          <a:p>
            <a:pPr lvl="1" marL="980640" indent="-528120">
              <a:spcBef>
                <a:spcPts val="550"/>
              </a:spcBef>
              <a:buClr>
                <a:srgbClr val="80808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Condensed"/>
              </a:rPr>
              <a:t>Deposit maximum amount of money into the line </a:t>
            </a:r>
            <a:endParaRPr b="0" lang="en-US" sz="2200" spc="-1" strike="noStrike">
              <a:solidFill>
                <a:srgbClr val="000000"/>
              </a:solidFill>
              <a:latin typeface="Helvetica Condensed"/>
            </a:endParaRPr>
          </a:p>
          <a:p>
            <a:pPr lvl="1" marL="98064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Helvetica Condensed"/>
              </a:rPr>
              <a:t>of credit per month</a:t>
            </a:r>
            <a:endParaRPr b="0" lang="en-US" sz="2200" spc="-1" strike="noStrike">
              <a:solidFill>
                <a:srgbClr val="000000"/>
              </a:solidFill>
              <a:latin typeface="Helvetica Condensed"/>
            </a:endParaRPr>
          </a:p>
          <a:p>
            <a:pPr lvl="1" marL="980640" indent="-528120">
              <a:spcBef>
                <a:spcPts val="550"/>
              </a:spcBef>
              <a:buClr>
                <a:srgbClr val="80808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Condensed"/>
              </a:rPr>
              <a:t>Keep it there as long as possible</a:t>
            </a:r>
            <a:endParaRPr b="0" lang="en-US" sz="2200" spc="-1" strike="noStrike">
              <a:solidFill>
                <a:srgbClr val="000000"/>
              </a:solidFill>
              <a:latin typeface="Helvetica Condensed"/>
            </a:endParaRPr>
          </a:p>
          <a:p>
            <a:pPr lvl="1" marL="980640" indent="-528120">
              <a:spcBef>
                <a:spcPts val="550"/>
              </a:spcBef>
              <a:buClr>
                <a:srgbClr val="80808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Condensed"/>
              </a:rPr>
              <a:t>Least amount spent by the end of each month</a:t>
            </a:r>
            <a:endParaRPr b="0" lang="en-US" sz="2200" spc="-1" strike="noStrike">
              <a:solidFill>
                <a:srgbClr val="000000"/>
              </a:solidFill>
              <a:latin typeface="Helvetica Condensed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Helvetica Condensed"/>
              </a:rPr>
              <a:t>ALOC Functionality</a:t>
            </a:r>
            <a:endParaRPr b="0" lang="en-US" sz="2800" spc="-1" strike="noStrike">
              <a:solidFill>
                <a:srgbClr val="000000"/>
              </a:solidFill>
              <a:latin typeface="Helvetica Condensed"/>
            </a:endParaRPr>
          </a:p>
          <a:p>
            <a:pPr lvl="1" marL="980640" indent="-528120">
              <a:spcBef>
                <a:spcPts val="550"/>
              </a:spcBef>
              <a:buClr>
                <a:srgbClr val="80808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Condensed"/>
              </a:rPr>
              <a:t>Functions as a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Helvetica Condensed"/>
              </a:rPr>
              <a:t>primary checking</a:t>
            </a:r>
            <a:r>
              <a:rPr b="0" lang="en-US" sz="2200" spc="-1" strike="noStrike">
                <a:solidFill>
                  <a:srgbClr val="000000"/>
                </a:solidFill>
                <a:latin typeface="Helvetica Condensed"/>
              </a:rPr>
              <a:t> account</a:t>
            </a:r>
            <a:endParaRPr b="0" lang="en-US" sz="2200" spc="-1" strike="noStrike">
              <a:solidFill>
                <a:srgbClr val="000000"/>
              </a:solidFill>
              <a:latin typeface="Helvetica Condensed"/>
            </a:endParaRPr>
          </a:p>
          <a:p>
            <a:pPr lvl="1" marL="980640" indent="-528120">
              <a:spcBef>
                <a:spcPts val="550"/>
              </a:spcBef>
              <a:buClr>
                <a:srgbClr val="80808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Condensed"/>
              </a:rPr>
              <a:t>Deposit all of your income into ALOC</a:t>
            </a:r>
            <a:endParaRPr b="0" lang="en-US" sz="2200" spc="-1" strike="noStrike">
              <a:solidFill>
                <a:srgbClr val="000000"/>
              </a:solidFill>
              <a:latin typeface="Helvetica Condensed"/>
            </a:endParaRPr>
          </a:p>
          <a:p>
            <a:pPr lvl="1" marL="980640" indent="-528120">
              <a:spcBef>
                <a:spcPts val="550"/>
              </a:spcBef>
              <a:buClr>
                <a:srgbClr val="80808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Condensed"/>
              </a:rPr>
              <a:t>Ability to pay all bills using ALOC</a:t>
            </a:r>
            <a:endParaRPr b="0" lang="en-US" sz="22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0"/>
            <a:ext cx="816768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rebuchet MS"/>
              </a:rPr>
              <a:t>Component #2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-Your 1</a:t>
            </a:r>
            <a:r>
              <a:rPr b="0" lang="en-US" sz="1400" spc="-1" strike="noStrike" baseline="30000">
                <a:solidFill>
                  <a:srgbClr val="808080"/>
                </a:solidFill>
                <a:latin typeface="Trebuchet MS"/>
              </a:rPr>
              <a:t>st</a:t>
            </a: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Mortgage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-ALOC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295280" y="1447560"/>
            <a:ext cx="7772400" cy="36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r" pos="1596960"/>
                <a:tab algn="l" pos="206064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Helvetica Condensed"/>
              </a:rPr>
              <a:t>Model Monthly Budget</a:t>
            </a:r>
            <a:r>
              <a:rPr b="0" lang="en-US" sz="2200" spc="-1" strike="noStrike">
                <a:solidFill>
                  <a:srgbClr val="000000"/>
                </a:solidFill>
                <a:latin typeface="Helvetica Condensed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Helvetica Condensed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Helvetica Condensed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r" pos="1596960"/>
                <a:tab algn="l" pos="206064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2200" spc="-1" strike="noStrike">
              <a:solidFill>
                <a:srgbClr val="000000"/>
              </a:solidFill>
              <a:latin typeface="Helvetica Condensed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r" pos="1596960"/>
                <a:tab algn="l" pos="206064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Helvetica Condensed"/>
              </a:rPr>
              <a:t>$5,000</a:t>
            </a:r>
            <a:r>
              <a:rPr b="0" lang="en-US" sz="28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Helvetica Condensed"/>
              </a:rPr>
              <a:t>Monthly income</a:t>
            </a:r>
            <a:endParaRPr b="0" lang="en-US" sz="2800" spc="-1" strike="noStrike">
              <a:solidFill>
                <a:srgbClr val="000000"/>
              </a:solidFill>
              <a:latin typeface="Helvetica Condensed"/>
            </a:endParaRPr>
          </a:p>
          <a:p>
            <a:pPr indent="0">
              <a:buNone/>
              <a:tabLst>
                <a:tab algn="l" pos="0"/>
                <a:tab algn="r" pos="1596960"/>
                <a:tab algn="l" pos="206064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Helvetica Condensed"/>
              </a:rPr>
              <a:t>-$4,000</a:t>
            </a:r>
            <a:r>
              <a:rPr b="0" lang="en-US" sz="28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Helvetica Condensed"/>
              </a:rPr>
              <a:t>Living expenses </a:t>
            </a:r>
            <a:endParaRPr b="0" lang="en-US" sz="2800" spc="-1" strike="noStrike">
              <a:solidFill>
                <a:srgbClr val="000000"/>
              </a:solidFill>
              <a:latin typeface="Helvetica Condensed"/>
            </a:endParaRPr>
          </a:p>
          <a:p>
            <a:pPr indent="0">
              <a:lnSpc>
                <a:spcPct val="65000"/>
              </a:lnSpc>
              <a:buNone/>
              <a:tabLst>
                <a:tab algn="l" pos="0"/>
                <a:tab algn="r" pos="1596960"/>
                <a:tab algn="l" pos="206064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Condensed"/>
              </a:rPr>
              <a:t>(mortgage, entertainment, car payment, etc.)</a:t>
            </a:r>
            <a:endParaRPr b="0" lang="en-US" sz="2000" spc="-1" strike="noStrike">
              <a:solidFill>
                <a:srgbClr val="000000"/>
              </a:solidFill>
              <a:latin typeface="Helvetica Condensed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r" pos="1596960"/>
                <a:tab algn="l" pos="206064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Helvetica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Helvetica Condensed"/>
              </a:rPr>
              <a:t>$1,000</a:t>
            </a:r>
            <a:r>
              <a:rPr b="0" lang="en-US" sz="28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Helvetica Condensed"/>
              </a:rPr>
              <a:t>Discretionary income</a:t>
            </a:r>
            <a:endParaRPr b="0" lang="en-US" sz="28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0"/>
            <a:ext cx="816768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rebuchet MS"/>
              </a:rPr>
              <a:t>Component #2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-Your 1</a:t>
            </a:r>
            <a:r>
              <a:rPr b="0" lang="en-US" sz="1400" spc="-1" strike="noStrike" baseline="30000">
                <a:solidFill>
                  <a:srgbClr val="808080"/>
                </a:solidFill>
                <a:latin typeface="Trebuchet MS"/>
              </a:rPr>
              <a:t>st</a:t>
            </a: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Mortgage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-ALOC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1371240" y="837720"/>
            <a:ext cx="74674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r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Helvetica Condensed"/>
              </a:rPr>
              <a:t>MMA Month 1</a:t>
            </a: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r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elvetica Condense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r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$60,000</a:t>
            </a: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Line of Credit available  (ALOC)</a:t>
            </a: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r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Helvetica Condense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r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-$3,500</a:t>
            </a: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MMA one-time fee</a:t>
            </a: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r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Helvetica Condensed"/>
              </a:rPr>
              <a:t>-$4,000</a:t>
            </a: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Living expenses</a:t>
            </a: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r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-$7,500</a:t>
            </a: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Balance owed</a:t>
            </a: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r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elvetica Condense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r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-$7,500</a:t>
            </a: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Balance owed</a:t>
            </a: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r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Helvetica Condensed"/>
              </a:rPr>
              <a:t> </a:t>
            </a:r>
            <a:r>
              <a:rPr b="0" lang="en-US" sz="2400" spc="-1" strike="noStrike" u="sng">
                <a:solidFill>
                  <a:srgbClr val="003300"/>
                </a:solidFill>
                <a:uFillTx/>
                <a:latin typeface="Helvetica Condensed"/>
              </a:rPr>
              <a:t>$5,000</a:t>
            </a: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Paycheck (deposit)</a:t>
            </a: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r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-$2,500</a:t>
            </a: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New balance owed</a:t>
            </a: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r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elvetica Condensed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r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The bank can only charge interest on $2,500</a:t>
            </a:r>
            <a:endParaRPr b="0" lang="en-US" sz="26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816768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rebuchet MS"/>
              </a:rPr>
              <a:t>Component #2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-Your 1</a:t>
            </a:r>
            <a:r>
              <a:rPr b="0" lang="en-US" sz="1400" spc="-1" strike="noStrike" baseline="30000">
                <a:solidFill>
                  <a:srgbClr val="808080"/>
                </a:solidFill>
                <a:latin typeface="Trebuchet MS"/>
              </a:rPr>
              <a:t>st</a:t>
            </a: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Mortgage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-ALOC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1066320" y="837720"/>
            <a:ext cx="80773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r" pos="2452680"/>
                <a:tab algn="l" pos="2859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1" i="1" lang="en-US" sz="2600" spc="-1" strike="noStrike">
                <a:solidFill>
                  <a:srgbClr val="000000"/>
                </a:solidFill>
                <a:latin typeface="Helvetica Condensed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Helvetica Condensed"/>
              </a:rPr>
              <a:t>MMA Month 1 Conclusion</a:t>
            </a:r>
            <a:endParaRPr b="0" lang="en-US" sz="2800" spc="-1" strike="noStrike">
              <a:solidFill>
                <a:srgbClr val="000000"/>
              </a:solidFill>
              <a:latin typeface="Helvetica Condense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r" pos="2452680"/>
                <a:tab algn="l" pos="2859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r" pos="2452680"/>
                <a:tab algn="l" pos="2859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-$3,500</a:t>
            </a: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Starting balance</a:t>
            </a:r>
            <a:endParaRPr b="0" lang="en-US" sz="2600" spc="-1" strike="noStrike">
              <a:solidFill>
                <a:srgbClr val="000000"/>
              </a:solidFill>
              <a:latin typeface="Helvetica Condensed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r" pos="2452680"/>
                <a:tab algn="l" pos="2859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-$2,500</a:t>
            </a: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Ending balance</a:t>
            </a:r>
            <a:endParaRPr b="0" lang="en-US" sz="2600" spc="-1" strike="noStrike">
              <a:solidFill>
                <a:srgbClr val="000000"/>
              </a:solidFill>
              <a:latin typeface="Helvetica Condense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r" pos="2452680"/>
                <a:tab algn="l" pos="2859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Helvetica Condensed"/>
            </a:endParaRPr>
          </a:p>
          <a:p>
            <a:pPr lvl="1" marL="1155600" indent="-533160">
              <a:spcBef>
                <a:spcPts val="601"/>
              </a:spcBef>
              <a:buClr>
                <a:srgbClr val="4d4d4d"/>
              </a:buClr>
              <a:buFont typeface="Wingdings" charset="2"/>
              <a:buChar char=""/>
              <a:tabLst>
                <a:tab algn="r" pos="2452680"/>
                <a:tab algn="l" pos="2859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You have never made a scheduled monthly payment</a:t>
            </a: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  <a:p>
            <a:pPr indent="0">
              <a:spcBef>
                <a:spcPts val="249"/>
              </a:spcBef>
              <a:buNone/>
              <a:tabLst>
                <a:tab algn="r" pos="2452680"/>
                <a:tab algn="l" pos="2859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Helvetica Condensed"/>
            </a:endParaRPr>
          </a:p>
          <a:p>
            <a:pPr lvl="1" marL="1155600" indent="-533160">
              <a:spcBef>
                <a:spcPts val="601"/>
              </a:spcBef>
              <a:buClr>
                <a:srgbClr val="4d4d4d"/>
              </a:buClr>
              <a:buFont typeface="Wingdings" charset="2"/>
              <a:buChar char=""/>
              <a:tabLst>
                <a:tab algn="r" pos="2452680"/>
                <a:tab algn="l" pos="2859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Your income represented your monthly payment</a:t>
            </a: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r" pos="2452680"/>
                <a:tab algn="l" pos="2859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Helvetica Condensed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r" pos="2452680"/>
                <a:tab algn="l" pos="2859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-$7,500</a:t>
            </a: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Money borrowed from ALOC</a:t>
            </a:r>
            <a:endParaRPr b="0" lang="en-US" sz="2600" spc="-1" strike="noStrike">
              <a:solidFill>
                <a:srgbClr val="000000"/>
              </a:solidFill>
              <a:latin typeface="Helvetica Condensed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r" pos="2452680"/>
                <a:tab algn="l" pos="2859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-$2,500</a:t>
            </a: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Interest assessable balance</a:t>
            </a:r>
            <a:endParaRPr b="0" lang="en-US" sz="26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816768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rebuchet MS"/>
              </a:rPr>
              <a:t>Component #2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-Your 1</a:t>
            </a:r>
            <a:r>
              <a:rPr b="0" lang="en-US" sz="1400" spc="-1" strike="noStrike" baseline="30000">
                <a:solidFill>
                  <a:srgbClr val="808080"/>
                </a:solidFill>
                <a:latin typeface="Trebuchet MS"/>
              </a:rPr>
              <a:t>st</a:t>
            </a: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Mortgage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-ALOC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1676160" y="762120"/>
            <a:ext cx="65530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elvetica Condense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Condensed"/>
              </a:rPr>
              <a:t>You paid </a:t>
            </a:r>
            <a:r>
              <a:rPr b="1" lang="en-US" sz="2800" spc="-1" strike="noStrike">
                <a:solidFill>
                  <a:srgbClr val="000000"/>
                </a:solidFill>
                <a:latin typeface="Helvetica Condensed"/>
              </a:rPr>
              <a:t>NO</a:t>
            </a:r>
            <a:r>
              <a:rPr b="0" lang="en-US" sz="2800" spc="-1" strike="noStrike">
                <a:solidFill>
                  <a:srgbClr val="000000"/>
                </a:solidFill>
                <a:latin typeface="Helvetica Condensed"/>
              </a:rPr>
              <a:t> interest on the $4,000           you used to pay your living expenses</a:t>
            </a:r>
            <a:endParaRPr b="0" lang="en-US" sz="2800" spc="-1" strike="noStrike">
              <a:solidFill>
                <a:srgbClr val="000000"/>
              </a:solidFill>
              <a:latin typeface="Helvetica Condense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Condense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Condensed"/>
              </a:rPr>
              <a:t>Your ALOC becomes an </a:t>
            </a:r>
            <a:endParaRPr b="0" lang="en-US" sz="2800" spc="-1" strike="noStrike">
              <a:solidFill>
                <a:srgbClr val="000000"/>
              </a:solidFill>
              <a:latin typeface="Helvetica Condense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 Condensed"/>
              </a:rPr>
              <a:t>Interest Cancellation Account</a:t>
            </a:r>
            <a:endParaRPr b="0" lang="en-US" sz="2800" spc="-1" strike="noStrike">
              <a:solidFill>
                <a:srgbClr val="000000"/>
              </a:solidFill>
              <a:latin typeface="Helvetica Condense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Condense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Condensed"/>
              </a:rPr>
              <a:t>Tax deductible*</a:t>
            </a:r>
            <a:endParaRPr b="0" lang="en-US" sz="2800" spc="-1" strike="noStrike">
              <a:solidFill>
                <a:srgbClr val="000000"/>
              </a:solidFill>
              <a:latin typeface="Helvetica Condense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Condense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Condense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Condensed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Helvetica Condensed"/>
              </a:rPr>
              <a:t>*consult your tax adviser</a:t>
            </a:r>
            <a:endParaRPr b="0" lang="en-US" sz="10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0"/>
            <a:ext cx="816768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rebuchet MS"/>
              </a:rPr>
              <a:t>Component #2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-Your 1</a:t>
            </a:r>
            <a:r>
              <a:rPr b="0" lang="en-US" sz="1400" spc="-1" strike="noStrike" baseline="30000">
                <a:solidFill>
                  <a:srgbClr val="808080"/>
                </a:solidFill>
                <a:latin typeface="Trebuchet MS"/>
              </a:rPr>
              <a:t>st</a:t>
            </a: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Mortgage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-ALOC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1676520" y="1143000"/>
            <a:ext cx="7162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Helvetica Condensed"/>
              </a:rPr>
              <a:t>Closed-End Loan</a:t>
            </a:r>
            <a:endParaRPr b="0" lang="en-US" sz="2800" spc="-1" strike="noStrike">
              <a:solidFill>
                <a:srgbClr val="000000"/>
              </a:solidFill>
              <a:latin typeface="Helvetica Condensed"/>
            </a:endParaRPr>
          </a:p>
          <a:p>
            <a:pPr lvl="1" marL="990720" indent="-533520">
              <a:spcBef>
                <a:spcPts val="601"/>
              </a:spcBef>
              <a:buClr>
                <a:srgbClr val="5f5f5f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Eliminate interest</a:t>
            </a: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  <a:p>
            <a:pPr lvl="1" marL="990720" indent="-533520">
              <a:spcBef>
                <a:spcPts val="601"/>
              </a:spcBef>
              <a:buClr>
                <a:srgbClr val="5f5f5f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Control your money, so your money doesn’t control you</a:t>
            </a: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  <a:p>
            <a:pPr lvl="1" marL="990720" indent="-533520">
              <a:spcBef>
                <a:spcPts val="601"/>
              </a:spcBef>
              <a:buClr>
                <a:srgbClr val="5f5f5f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Get your money working for you instead of working for the bank</a:t>
            </a: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Helvetica Condensed"/>
              </a:rPr>
              <a:t>Open-End Loan</a:t>
            </a:r>
            <a:endParaRPr b="0" lang="en-US" sz="2800" spc="-1" strike="noStrike">
              <a:solidFill>
                <a:srgbClr val="000000"/>
              </a:solidFill>
              <a:latin typeface="Helvetica Condensed"/>
            </a:endParaRPr>
          </a:p>
          <a:p>
            <a:pPr lvl="1" marL="990720" indent="-533520">
              <a:spcBef>
                <a:spcPts val="601"/>
              </a:spcBef>
              <a:buClr>
                <a:srgbClr val="5f5f5f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Income forces adjustment to principal balance</a:t>
            </a: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  <a:p>
            <a:pPr lvl="1" marL="990720" indent="-533520">
              <a:spcBef>
                <a:spcPts val="601"/>
              </a:spcBef>
              <a:buClr>
                <a:srgbClr val="5f5f5f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Interest Cancellation Account</a:t>
            </a: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0"/>
            <a:ext cx="816768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rebuchet MS"/>
              </a:rPr>
              <a:t>Component #2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-Your 1</a:t>
            </a:r>
            <a:r>
              <a:rPr b="0" lang="en-US" sz="1400" spc="-1" strike="noStrike" baseline="30000">
                <a:solidFill>
                  <a:srgbClr val="808080"/>
                </a:solidFill>
                <a:latin typeface="Trebuchet MS"/>
              </a:rPr>
              <a:t>st</a:t>
            </a: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Mortgage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-ALOC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828800" y="990360"/>
            <a:ext cx="6270480" cy="51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Helvetica Condensed"/>
              </a:rPr>
              <a:t>Component #3</a:t>
            </a:r>
            <a:endParaRPr b="0" lang="en-US" sz="3200" spc="-1" strike="noStrike">
              <a:solidFill>
                <a:srgbClr val="000000"/>
              </a:solidFill>
              <a:latin typeface="Helvetica Condensed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  <a:p>
            <a:pPr lvl="1" marL="960840" indent="-517320">
              <a:spcBef>
                <a:spcPts val="601"/>
              </a:spcBef>
              <a:buClr>
                <a:srgbClr val="808080"/>
              </a:buClr>
              <a:buFont typeface="Helvetica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Helvetica Condensed"/>
              </a:rPr>
              <a:t>Your 1</a:t>
            </a:r>
            <a:r>
              <a:rPr b="0" lang="en-US" sz="2400" spc="-1" strike="noStrike" baseline="30000">
                <a:solidFill>
                  <a:srgbClr val="808080"/>
                </a:solidFill>
                <a:latin typeface="Helvetica Condensed"/>
              </a:rPr>
              <a:t>st</a:t>
            </a:r>
            <a:r>
              <a:rPr b="0" lang="en-US" sz="2400" spc="-1" strike="noStrike">
                <a:solidFill>
                  <a:srgbClr val="808080"/>
                </a:solidFill>
                <a:latin typeface="Helvetica Condensed"/>
              </a:rPr>
              <a:t> mortgage </a:t>
            </a: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  <a:p>
            <a:pPr lvl="1" marL="960840" indent="-517320">
              <a:spcBef>
                <a:spcPts val="601"/>
              </a:spcBef>
              <a:buClr>
                <a:srgbClr val="808080"/>
              </a:buClr>
              <a:buFont typeface="Helvetica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Helvetica Condensed"/>
              </a:rPr>
              <a:t>Open-End ALOC </a:t>
            </a: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  <a:p>
            <a:pPr lvl="1" marL="960840" indent="-517320">
              <a:spcBef>
                <a:spcPts val="601"/>
              </a:spcBef>
              <a:buClr>
                <a:srgbClr val="000000"/>
              </a:buClr>
              <a:buFont typeface="Helvetica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MMA software and website</a:t>
            </a: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  <a:p>
            <a:pPr lvl="3" marL="1699560" indent="-369360">
              <a:spcBef>
                <a:spcPts val="601"/>
              </a:spcBef>
              <a:buClr>
                <a:srgbClr val="5f5f5f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Financial dashboard</a:t>
            </a: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  <a:p>
            <a:pPr lvl="3" marL="1699560" indent="-369360">
              <a:spcBef>
                <a:spcPts val="601"/>
              </a:spcBef>
              <a:buClr>
                <a:srgbClr val="5f5f5f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Financial planning</a:t>
            </a: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  <a:p>
            <a:pPr lvl="3" marL="1699560" indent="-369360">
              <a:spcBef>
                <a:spcPts val="601"/>
              </a:spcBef>
              <a:buClr>
                <a:srgbClr val="5f5f5f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Online account register</a:t>
            </a: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  <a:p>
            <a:pPr lvl="3" marL="1699560" indent="-369360">
              <a:spcBef>
                <a:spcPts val="601"/>
              </a:spcBef>
              <a:buClr>
                <a:srgbClr val="5f5f5f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Maximizes money performance</a:t>
            </a: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  <a:p>
            <a:pPr lvl="3" marL="1699560" indent="-369360">
              <a:spcBef>
                <a:spcPts val="601"/>
              </a:spcBef>
              <a:buClr>
                <a:srgbClr val="5f5f5f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10 minutes per month to update</a:t>
            </a: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0"/>
            <a:ext cx="816768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rebuchet MS"/>
              </a:rPr>
              <a:t>Component #3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-Your 1</a:t>
            </a:r>
            <a:r>
              <a:rPr b="0" lang="en-US" sz="1400" spc="-1" strike="noStrike" baseline="30000">
                <a:solidFill>
                  <a:srgbClr val="808080"/>
                </a:solidFill>
                <a:latin typeface="Trebuchet MS"/>
              </a:rPr>
              <a:t>st</a:t>
            </a: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Mortgage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-ALOC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 -MMA 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294920" y="1038240"/>
            <a:ext cx="800100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Helvetica Condensed"/>
              </a:rPr>
              <a:t>The MMA Website</a:t>
            </a:r>
            <a:endParaRPr b="0" lang="en-US" sz="2800" spc="-1" strike="noStrike">
              <a:solidFill>
                <a:srgbClr val="000000"/>
              </a:solidFill>
              <a:latin typeface="Helvetica Condensed"/>
            </a:endParaRPr>
          </a:p>
          <a:p>
            <a:pPr lvl="1" marL="970560" indent="-522720">
              <a:spcBef>
                <a:spcPts val="601"/>
              </a:spcBef>
              <a:buClr>
                <a:srgbClr val="5f5f5f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Does NOT move money</a:t>
            </a: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  <a:p>
            <a:pPr lvl="1" marL="970560" indent="-522720">
              <a:spcBef>
                <a:spcPts val="601"/>
              </a:spcBef>
              <a:buClr>
                <a:srgbClr val="5f5f5f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Does NOT pay bills</a:t>
            </a: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  <a:p>
            <a:pPr lvl="1" marL="970560" indent="-522720">
              <a:spcBef>
                <a:spcPts val="601"/>
              </a:spcBef>
              <a:buClr>
                <a:srgbClr val="5f5f5f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Is user friendly software</a:t>
            </a: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  <a:p>
            <a:pPr lvl="1" marL="970560" indent="-522720">
              <a:spcBef>
                <a:spcPts val="601"/>
              </a:spcBef>
              <a:buClr>
                <a:srgbClr val="5f5f5f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Is simple to update</a:t>
            </a: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  <a:p>
            <a:pPr lvl="1" marL="970560" indent="-522720">
              <a:spcBef>
                <a:spcPts val="601"/>
              </a:spcBef>
              <a:buClr>
                <a:srgbClr val="5f5f5f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Is a tracking tool</a:t>
            </a: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  <a:p>
            <a:pPr lvl="1" marL="970560" indent="-522720">
              <a:spcBef>
                <a:spcPts val="601"/>
              </a:spcBef>
              <a:buClr>
                <a:srgbClr val="5f5f5f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Functions as an account register</a:t>
            </a: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  <a:p>
            <a:pPr lvl="2" marL="1343880" indent="-447840">
              <a:spcBef>
                <a:spcPts val="601"/>
              </a:spcBef>
              <a:buClr>
                <a:srgbClr val="5f5f5f"/>
              </a:buClr>
              <a:buFont typeface="Helvetic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Wants to know how much money is coming in</a:t>
            </a: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  <a:p>
            <a:pPr lvl="2" marL="1343880" indent="-447840">
              <a:spcBef>
                <a:spcPts val="601"/>
              </a:spcBef>
              <a:buClr>
                <a:srgbClr val="5f5f5f"/>
              </a:buClr>
              <a:buFont typeface="Helvetic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Wants to know how much money is going out</a:t>
            </a: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  <a:p>
            <a:pPr lvl="1" marL="970560" indent="-522720">
              <a:spcBef>
                <a:spcPts val="601"/>
              </a:spcBef>
              <a:buClr>
                <a:srgbClr val="5f5f5f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Tracks your monthly budget</a:t>
            </a: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  <a:p>
            <a:pPr lvl="1" marL="970560" indent="-522720">
              <a:spcBef>
                <a:spcPts val="601"/>
              </a:spcBef>
              <a:buClr>
                <a:srgbClr val="5f5f5f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Includes continuous customer support</a:t>
            </a: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0"/>
            <a:ext cx="816768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rebuchet MS"/>
              </a:rPr>
              <a:t>Component #3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-Your 1</a:t>
            </a:r>
            <a:r>
              <a:rPr b="0" lang="en-US" sz="1400" spc="-1" strike="noStrike" baseline="30000">
                <a:solidFill>
                  <a:srgbClr val="808080"/>
                </a:solidFill>
                <a:latin typeface="Trebuchet MS"/>
              </a:rPr>
              <a:t>st</a:t>
            </a: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Mortgage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-ALOC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 -MMA 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0"/>
            <a:ext cx="816768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rebuchet MS"/>
              </a:rPr>
              <a:t>Component #3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-Your 1</a:t>
            </a:r>
            <a:r>
              <a:rPr b="0" lang="en-US" sz="1400" spc="-1" strike="noStrike" baseline="30000">
                <a:solidFill>
                  <a:srgbClr val="808080"/>
                </a:solidFill>
                <a:latin typeface="Trebuchet MS"/>
              </a:rPr>
              <a:t>st</a:t>
            </a: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Mortgage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-ALOC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 -MMA 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308640" y="950760"/>
            <a:ext cx="2225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918480" y="1255680"/>
            <a:ext cx="1996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1981080" y="901800"/>
            <a:ext cx="5257800" cy="51181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1752480" y="1828800"/>
            <a:ext cx="1447920" cy="8017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3352680" y="1447920"/>
            <a:ext cx="990720" cy="5331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4495680" y="1447920"/>
            <a:ext cx="914400" cy="5331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6"/>
          <a:stretch/>
        </p:blipFill>
        <p:spPr>
          <a:xfrm>
            <a:off x="5334120" y="1447920"/>
            <a:ext cx="2209680" cy="5331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7"/>
          <a:stretch/>
        </p:blipFill>
        <p:spPr>
          <a:xfrm>
            <a:off x="1916280" y="2514600"/>
            <a:ext cx="1055520" cy="11430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8"/>
          <a:stretch/>
        </p:blipFill>
        <p:spPr>
          <a:xfrm>
            <a:off x="2754360" y="2514600"/>
            <a:ext cx="1055520" cy="11430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9"/>
          <a:stretch/>
        </p:blipFill>
        <p:spPr>
          <a:xfrm>
            <a:off x="3827520" y="2514600"/>
            <a:ext cx="1125360" cy="11430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10"/>
          <a:stretch/>
        </p:blipFill>
        <p:spPr>
          <a:xfrm>
            <a:off x="4594320" y="2133720"/>
            <a:ext cx="1349280" cy="22860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11"/>
          <a:stretch/>
        </p:blipFill>
        <p:spPr>
          <a:xfrm>
            <a:off x="5334120" y="2133720"/>
            <a:ext cx="1314360" cy="19047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12"/>
          <a:stretch/>
        </p:blipFill>
        <p:spPr>
          <a:xfrm>
            <a:off x="1523880" y="1447920"/>
            <a:ext cx="2514600" cy="5331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13"/>
          <a:stretch/>
        </p:blipFill>
        <p:spPr>
          <a:xfrm>
            <a:off x="6324480" y="2819520"/>
            <a:ext cx="1067040" cy="6094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14"/>
          <a:stretch/>
        </p:blipFill>
        <p:spPr>
          <a:xfrm>
            <a:off x="1981080" y="2971800"/>
            <a:ext cx="525780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4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2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0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8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6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4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2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0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8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6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4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1371240" y="1752120"/>
            <a:ext cx="7620120" cy="42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Helvetica Condensed"/>
              </a:rPr>
              <a:t>Understanding an Advanced Line of Credit</a:t>
            </a:r>
            <a:endParaRPr b="0" lang="en-US" sz="2800" spc="-1" strike="noStrike">
              <a:solidFill>
                <a:srgbClr val="000000"/>
              </a:solidFill>
              <a:latin typeface="Helvetica Condensed"/>
            </a:endParaRPr>
          </a:p>
          <a:p>
            <a:pPr marL="60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elvetica Condensed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It is not a savings account</a:t>
            </a: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It is the vehicle that drives the MMA software</a:t>
            </a: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It cannot drop below a $0 balance</a:t>
            </a: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0"/>
            <a:ext cx="816768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rebuchet MS"/>
              </a:rPr>
              <a:t>Component #3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-Your 1</a:t>
            </a:r>
            <a:r>
              <a:rPr b="0" lang="en-US" sz="1400" spc="-1" strike="noStrike" baseline="30000">
                <a:solidFill>
                  <a:srgbClr val="808080"/>
                </a:solidFill>
                <a:latin typeface="Trebuchet MS"/>
              </a:rPr>
              <a:t>st</a:t>
            </a: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Mortgage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-ALOC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 -MMA 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2361960" y="1676520"/>
            <a:ext cx="635148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Helvetica Condensed"/>
              </a:rPr>
              <a:t>Three Components of an MMA</a:t>
            </a:r>
            <a:endParaRPr b="0" lang="en-US" sz="2800" spc="-1" strike="noStrike">
              <a:solidFill>
                <a:srgbClr val="000000"/>
              </a:solidFill>
              <a:latin typeface="Helvetica Condensed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Condensed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Helvetica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Your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Helvetica Condensed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 Mortgage</a:t>
            </a: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Helvetica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Advanced Line of Credit  (ALOC)</a:t>
            </a: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Helvetica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MMA Software &amp; Web Site</a:t>
            </a: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371600" y="837720"/>
            <a:ext cx="7315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r" pos="1828800"/>
                <a:tab algn="l" pos="2293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Helvetica Condensed"/>
              </a:rPr>
              <a:t>MMA Month 2</a:t>
            </a:r>
            <a:r>
              <a:rPr b="1" i="1" lang="en-US" sz="2600" spc="-1" strike="noStrike">
                <a:solidFill>
                  <a:srgbClr val="000000"/>
                </a:solidFill>
                <a:latin typeface="Helvetica Condensed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Helvetica Condensed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r" pos="1828800"/>
                <a:tab algn="l" pos="2293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-$  2,500</a:t>
            </a: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Balance owed</a:t>
            </a:r>
            <a:endParaRPr b="0" lang="en-US" sz="2600" spc="-1" strike="noStrike">
              <a:solidFill>
                <a:srgbClr val="000000"/>
              </a:solidFill>
              <a:latin typeface="Helvetica Condensed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r" pos="1828800"/>
                <a:tab algn="l" pos="2293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-$  5,000</a:t>
            </a: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Pay down 1</a:t>
            </a:r>
            <a:r>
              <a:rPr b="0" lang="en-US" sz="2600" spc="-1" strike="noStrike" baseline="30000">
                <a:solidFill>
                  <a:srgbClr val="000000"/>
                </a:solidFill>
                <a:latin typeface="Helvetica Condensed"/>
              </a:rPr>
              <a:t>st</a:t>
            </a: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 mortgage</a:t>
            </a:r>
            <a:endParaRPr b="0" lang="en-US" sz="2600" spc="-1" strike="noStrike">
              <a:solidFill>
                <a:srgbClr val="000000"/>
              </a:solidFill>
              <a:latin typeface="Helvetica Condensed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r" pos="1828800"/>
                <a:tab algn="l" pos="2293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Helvetica Condensed"/>
              </a:rPr>
              <a:t>-$  4,000</a:t>
            </a: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Living expenses</a:t>
            </a:r>
            <a:endParaRPr b="0" lang="en-US" sz="2600" spc="-1" strike="noStrike">
              <a:solidFill>
                <a:srgbClr val="000000"/>
              </a:solidFill>
              <a:latin typeface="Helvetica Condensed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r" pos="1828800"/>
                <a:tab algn="l" pos="2293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-$11,500</a:t>
            </a: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New balance owed</a:t>
            </a:r>
            <a:endParaRPr b="0" lang="en-US" sz="2600" spc="-1" strike="noStrike">
              <a:solidFill>
                <a:srgbClr val="000000"/>
              </a:solidFill>
              <a:latin typeface="Helvetica Condensed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r" pos="1828800"/>
                <a:tab algn="l" pos="2293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Helvetica Condensed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r" pos="1828800"/>
                <a:tab algn="l" pos="2293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Helvetica Condensed"/>
              </a:rPr>
              <a:t>             </a:t>
            </a:r>
            <a:r>
              <a:rPr b="1" i="1" lang="en-US" sz="2600" spc="-1" strike="noStrike">
                <a:solidFill>
                  <a:srgbClr val="000000"/>
                </a:solidFill>
                <a:latin typeface="Helvetica Condensed"/>
              </a:rPr>
              <a:t>Interest Cancellation</a:t>
            </a:r>
            <a:endParaRPr b="0" lang="en-US" sz="2600" spc="-1" strike="noStrike">
              <a:solidFill>
                <a:srgbClr val="000000"/>
              </a:solidFill>
              <a:latin typeface="Helvetica Condensed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r" pos="1828800"/>
                <a:tab algn="l" pos="2293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-$11,500</a:t>
            </a: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Balance owed</a:t>
            </a:r>
            <a:endParaRPr b="0" lang="en-US" sz="2600" spc="-1" strike="noStrike">
              <a:solidFill>
                <a:srgbClr val="000000"/>
              </a:solidFill>
              <a:latin typeface="Helvetica Condensed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r" pos="1828800"/>
                <a:tab algn="l" pos="2293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Helvetica Condensed"/>
              </a:rPr>
              <a:t>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Helvetica Condensed"/>
              </a:rPr>
              <a:t>$  5,000</a:t>
            </a: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Paycheck (deposit)</a:t>
            </a:r>
            <a:endParaRPr b="0" lang="en-US" sz="2600" spc="-1" strike="noStrike">
              <a:solidFill>
                <a:srgbClr val="000000"/>
              </a:solidFill>
              <a:latin typeface="Helvetica Condensed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r" pos="1828800"/>
                <a:tab algn="l" pos="2293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-$  6,500</a:t>
            </a: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New balance owed</a:t>
            </a:r>
            <a:endParaRPr b="0" lang="en-US" sz="2600" spc="-1" strike="noStrike">
              <a:solidFill>
                <a:srgbClr val="000000"/>
              </a:solidFill>
              <a:latin typeface="Helvetica Condensed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r" pos="1828800"/>
                <a:tab algn="l" pos="2293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Helvetica Condensed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r" pos="1828800"/>
                <a:tab algn="l" pos="2293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The bank can only charge interest on $6,500</a:t>
            </a:r>
            <a:endParaRPr b="0" lang="en-US" sz="26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0"/>
            <a:ext cx="816768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rebuchet MS"/>
              </a:rPr>
              <a:t>Component #3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-Your 1</a:t>
            </a:r>
            <a:r>
              <a:rPr b="0" lang="en-US" sz="1400" spc="-1" strike="noStrike" baseline="30000">
                <a:solidFill>
                  <a:srgbClr val="808080"/>
                </a:solidFill>
                <a:latin typeface="Trebuchet MS"/>
              </a:rPr>
              <a:t>st</a:t>
            </a: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Mortgage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-ALOC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 -MMA 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0" y="0"/>
            <a:ext cx="816768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rebuchet MS"/>
              </a:rPr>
              <a:t>Component #3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-Your 1</a:t>
            </a:r>
            <a:r>
              <a:rPr b="0" lang="en-US" sz="1400" spc="-1" strike="noStrike" baseline="30000">
                <a:solidFill>
                  <a:srgbClr val="808080"/>
                </a:solidFill>
                <a:latin typeface="Trebuchet MS"/>
              </a:rPr>
              <a:t>st</a:t>
            </a: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Mortgage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-ALOC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 -MMA 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219320" y="838080"/>
            <a:ext cx="807696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r" pos="2452680"/>
                <a:tab algn="l" pos="2859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1" i="1" lang="en-US" sz="2600" spc="-1" strike="noStrike">
                <a:solidFill>
                  <a:srgbClr val="000000"/>
                </a:solidFill>
                <a:latin typeface="Helvetica Condensed"/>
              </a:rPr>
              <a:t>MMA Month 2 Conclu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r" pos="2452680"/>
                <a:tab algn="l" pos="2859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r" pos="2452680"/>
                <a:tab algn="l" pos="2859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-$2,500</a:t>
            </a: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Starting bal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r" pos="2452680"/>
                <a:tab algn="l" pos="2859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-$11,500</a:t>
            </a: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New bal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r" pos="2452680"/>
                <a:tab algn="l" pos="2859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-$6,500</a:t>
            </a: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End bal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r" pos="2452680"/>
                <a:tab algn="l" pos="2859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155600" indent="-533160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Wingdings" charset="2"/>
              <a:buChar char=""/>
              <a:tabLst>
                <a:tab algn="r" pos="2452680"/>
                <a:tab algn="l" pos="2859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You have never made a scheduled monthly pa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55600" indent="-533160">
              <a:lnSpc>
                <a:spcPct val="100000"/>
              </a:lnSpc>
              <a:spcBef>
                <a:spcPts val="300"/>
              </a:spcBef>
              <a:buClr>
                <a:srgbClr val="4d4d4d"/>
              </a:buClr>
              <a:buFont typeface="Wingdings" charset="2"/>
              <a:buChar char=""/>
              <a:tabLst>
                <a:tab algn="r" pos="2452680"/>
                <a:tab algn="l" pos="2859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55600" indent="-533160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Wingdings" charset="2"/>
              <a:buChar char=""/>
              <a:tabLst>
                <a:tab algn="r" pos="2452680"/>
                <a:tab algn="l" pos="2859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Your income represented your monthly pa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r" pos="2452680"/>
                <a:tab algn="l" pos="2859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r" pos="2452680"/>
                <a:tab algn="l" pos="2859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-$11,500</a:t>
            </a: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Money borrowed from ALO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r" pos="2452680"/>
                <a:tab algn="l" pos="2859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-$6,500</a:t>
            </a: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Interest assessable bal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1219320" y="1143000"/>
            <a:ext cx="761976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Condensed"/>
              </a:rPr>
              <a:t>You paid </a:t>
            </a:r>
            <a:r>
              <a:rPr b="1" lang="en-US" sz="2800" spc="-1" strike="noStrike">
                <a:solidFill>
                  <a:srgbClr val="000000"/>
                </a:solidFill>
                <a:latin typeface="Helvetica Condensed"/>
              </a:rPr>
              <a:t>NO</a:t>
            </a:r>
            <a:r>
              <a:rPr b="0" lang="en-US" sz="2800" spc="-1" strike="noStrike">
                <a:solidFill>
                  <a:srgbClr val="000000"/>
                </a:solidFill>
                <a:latin typeface="Helvetica Condensed"/>
              </a:rPr>
              <a:t> interest on the $5,000                       you used to buy down the principal balance              on your primary mortgage</a:t>
            </a:r>
            <a:endParaRPr b="0" lang="en-US" sz="2800" spc="-1" strike="noStrike">
              <a:solidFill>
                <a:srgbClr val="000000"/>
              </a:solidFill>
              <a:latin typeface="Helvetica Condense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Condense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Condensed"/>
              </a:rPr>
              <a:t>You traded </a:t>
            </a:r>
            <a:r>
              <a:rPr b="1" lang="en-US" sz="2800" spc="-1" strike="noStrike">
                <a:solidFill>
                  <a:srgbClr val="000000"/>
                </a:solidFill>
                <a:latin typeface="Helvetica Condensed"/>
              </a:rPr>
              <a:t>$23,304</a:t>
            </a:r>
            <a:r>
              <a:rPr b="0" lang="en-US" sz="2800" spc="-1" strike="noStrike">
                <a:solidFill>
                  <a:srgbClr val="000000"/>
                </a:solidFill>
                <a:latin typeface="Helvetica Condensed"/>
              </a:rPr>
              <a:t>                                                 of closed-end interest charges                                for an open-end finance charge on $6,500 </a:t>
            </a:r>
            <a:endParaRPr b="0" lang="en-US" sz="2800" spc="-1" strike="noStrike">
              <a:solidFill>
                <a:srgbClr val="000000"/>
              </a:solidFill>
              <a:latin typeface="Helvetica Condense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Condensed"/>
              </a:rPr>
              <a:t>($54.17)</a:t>
            </a:r>
            <a:endParaRPr b="0" lang="en-US" sz="2800" spc="-1" strike="noStrike">
              <a:solidFill>
                <a:srgbClr val="000000"/>
              </a:solidFill>
              <a:latin typeface="Helvetica Condense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Condense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Condensed"/>
              </a:rPr>
              <a:t>That is the magic of MMA</a:t>
            </a:r>
            <a:endParaRPr b="0" lang="en-US" sz="28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0"/>
            <a:ext cx="816768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rebuchet MS"/>
              </a:rPr>
              <a:t>Component #3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-Your 1</a:t>
            </a:r>
            <a:r>
              <a:rPr b="0" lang="en-US" sz="1400" spc="-1" strike="noStrike" baseline="30000">
                <a:solidFill>
                  <a:srgbClr val="808080"/>
                </a:solidFill>
                <a:latin typeface="Trebuchet MS"/>
              </a:rPr>
              <a:t>st</a:t>
            </a: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Mortgage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-ALOC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 -MMA 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816768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rebuchet MS"/>
              </a:rPr>
              <a:t>Component #3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-Your 1</a:t>
            </a:r>
            <a:r>
              <a:rPr b="0" lang="en-US" sz="1400" spc="-1" strike="noStrike" baseline="30000">
                <a:solidFill>
                  <a:srgbClr val="808080"/>
                </a:solidFill>
                <a:latin typeface="Trebuchet MS"/>
              </a:rPr>
              <a:t>st</a:t>
            </a: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Mortgage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-ALOC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 -MMA 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905120" y="914400"/>
            <a:ext cx="5638680" cy="50148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2666880" y="1517760"/>
            <a:ext cx="1067040" cy="57456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4"/>
          <a:stretch/>
        </p:blipFill>
        <p:spPr>
          <a:xfrm>
            <a:off x="3429000" y="1523880"/>
            <a:ext cx="990720" cy="5778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5"/>
          <a:stretch/>
        </p:blipFill>
        <p:spPr>
          <a:xfrm>
            <a:off x="4572000" y="1523880"/>
            <a:ext cx="990720" cy="5778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6"/>
          <a:stretch/>
        </p:blipFill>
        <p:spPr>
          <a:xfrm>
            <a:off x="5791320" y="1523880"/>
            <a:ext cx="990360" cy="5778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7"/>
          <a:stretch/>
        </p:blipFill>
        <p:spPr>
          <a:xfrm>
            <a:off x="1981080" y="3238560"/>
            <a:ext cx="54864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9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7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5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3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0"/>
            <a:ext cx="816768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rebuchet MS"/>
              </a:rPr>
              <a:t>Component #3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-Your 1</a:t>
            </a:r>
            <a:r>
              <a:rPr b="0" lang="en-US" sz="1400" spc="-1" strike="noStrike" baseline="30000">
                <a:solidFill>
                  <a:srgbClr val="808080"/>
                </a:solidFill>
                <a:latin typeface="Trebuchet MS"/>
              </a:rPr>
              <a:t>st</a:t>
            </a: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Mortgage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-ALOC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 -MMA 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2133720" y="838080"/>
            <a:ext cx="5148000" cy="51818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2057400" y="1981080"/>
            <a:ext cx="1905120" cy="304920"/>
          </a:xfrm>
          <a:prstGeom prst="ellipse">
            <a:avLst/>
          </a:prstGeom>
          <a:noFill/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0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0" y="0"/>
            <a:ext cx="816768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rebuchet MS"/>
              </a:rPr>
              <a:t>Component #3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-Your 1</a:t>
            </a:r>
            <a:r>
              <a:rPr b="0" lang="en-US" sz="1400" spc="-1" strike="noStrike" baseline="30000">
                <a:solidFill>
                  <a:srgbClr val="808080"/>
                </a:solidFill>
                <a:latin typeface="Trebuchet MS"/>
              </a:rPr>
              <a:t>st</a:t>
            </a: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Mortgage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-ALOC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 -MMA 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2057400" y="838080"/>
            <a:ext cx="5410080" cy="51469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4343400" y="2895480"/>
            <a:ext cx="1143000" cy="3049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124080"/>
            <a:ext cx="1143000" cy="228600"/>
          </a:xfrm>
          <a:prstGeom prst="ellipse">
            <a:avLst/>
          </a:prstGeom>
          <a:noFill/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743200" y="5638680"/>
            <a:ext cx="838080" cy="304920"/>
          </a:xfrm>
          <a:prstGeom prst="ellipse">
            <a:avLst/>
          </a:prstGeom>
          <a:noFill/>
          <a:ln w="572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43200" y="5486400"/>
            <a:ext cx="838080" cy="228600"/>
          </a:xfrm>
          <a:prstGeom prst="ellipse">
            <a:avLst/>
          </a:prstGeom>
          <a:noFill/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419720" y="3733920"/>
            <a:ext cx="1143000" cy="12027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57.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$156.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429000" y="4647960"/>
            <a:ext cx="1447920" cy="99036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334120"/>
            <a:ext cx="1143000" cy="304560"/>
          </a:xfrm>
          <a:prstGeom prst="ellipse">
            <a:avLst/>
          </a:prstGeom>
          <a:noFill/>
          <a:ln w="572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495680" y="5181480"/>
            <a:ext cx="1143000" cy="30492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666880" y="5029200"/>
            <a:ext cx="1143000" cy="304920"/>
          </a:xfrm>
          <a:prstGeom prst="ellipse">
            <a:avLst/>
          </a:prstGeom>
          <a:noFill/>
          <a:ln w="572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495680" y="4724280"/>
            <a:ext cx="1143000" cy="304920"/>
          </a:xfrm>
          <a:prstGeom prst="ellipse">
            <a:avLst/>
          </a:prstGeom>
          <a:noFill/>
          <a:ln w="572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324480" y="2438280"/>
            <a:ext cx="1143000" cy="304920"/>
          </a:xfrm>
          <a:prstGeom prst="ellipse">
            <a:avLst/>
          </a:prstGeom>
          <a:noFill/>
          <a:ln w="572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191120" y="3581280"/>
            <a:ext cx="1218960" cy="12027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200.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$156.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  43.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4800240" y="2666880"/>
            <a:ext cx="1981080" cy="99072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981080" y="2057400"/>
            <a:ext cx="1295640" cy="304920"/>
          </a:xfrm>
          <a:prstGeom prst="ellipse">
            <a:avLst/>
          </a:prstGeom>
          <a:noFill/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0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533520" y="3830760"/>
            <a:ext cx="6476760" cy="22651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3809880" y="45720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Helvetica Condensed"/>
              </a:rPr>
              <a:t>Compar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57200" y="198108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0"/>
            <a:ext cx="816768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rebuchet MS"/>
              </a:rPr>
              <a:t>Component #3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-Your 1</a:t>
            </a:r>
            <a:r>
              <a:rPr b="0" lang="en-US" sz="1400" spc="-1" strike="noStrike" baseline="30000">
                <a:solidFill>
                  <a:srgbClr val="808080"/>
                </a:solidFill>
                <a:latin typeface="Trebuchet MS"/>
              </a:rPr>
              <a:t>st</a:t>
            </a: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Mortgage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-ALOC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 -MMA 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514600" y="548640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an amount: $136,05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-682560" y="2714760"/>
            <a:ext cx="183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295280" y="1219320"/>
          <a:ext cx="7543440" cy="2314440"/>
        </p:xfrm>
        <a:graphic>
          <a:graphicData uri="http://schemas.openxmlformats.org/drawingml/2006/table">
            <a:tbl>
              <a:tblPr/>
              <a:tblGrid>
                <a:gridCol w="2102040"/>
                <a:gridCol w="2720520"/>
                <a:gridCol w="27208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elvetica Condensed"/>
                        </a:rPr>
                        <a:t>MMA Progr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elvetica Condensed"/>
                        </a:rPr>
                        <a:t>Conventional Progr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elvetica Condensed"/>
                        </a:rPr>
                        <a:t>Starting bal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elvetica Condensed"/>
                        </a:rPr>
                        <a:t>$136,0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elvetica Condensed"/>
                        </a:rPr>
                        <a:t>Balance in 1 year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3463920" y="2743200"/>
          <a:ext cx="2556000" cy="790560"/>
        </p:xfrm>
        <a:graphic>
          <a:graphicData uri="http://schemas.openxmlformats.org/drawingml/2006/table">
            <a:tbl>
              <a:tblPr/>
              <a:tblGrid>
                <a:gridCol w="255600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elvetica Condensed"/>
                        </a:rPr>
                        <a:t>11.33 ye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elvetica Condensed"/>
                        </a:rPr>
                        <a:t>$45,1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6283440" y="2743200"/>
          <a:ext cx="2555640" cy="790560"/>
        </p:xfrm>
        <a:graphic>
          <a:graphicData uri="http://schemas.openxmlformats.org/drawingml/2006/table">
            <a:tbl>
              <a:tblPr/>
              <a:tblGrid>
                <a:gridCol w="25556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elvetica Condensed"/>
                        </a:rPr>
                        <a:t>30 ye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elvetica Condensed"/>
                        </a:rPr>
                        <a:t>$134,7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5" name=""/>
          <p:cNvGraphicFramePr/>
          <p:nvPr/>
        </p:nvGraphicFramePr>
        <p:xfrm>
          <a:off x="6248520" y="1647720"/>
          <a:ext cx="2555640" cy="1095480"/>
        </p:xfrm>
        <a:graphic>
          <a:graphicData uri="http://schemas.openxmlformats.org/drawingml/2006/table">
            <a:tbl>
              <a:tblPr/>
              <a:tblGrid>
                <a:gridCol w="25556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elvetica Condensed"/>
                        </a:rPr>
                        <a:t>$136,0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elvetica Condensed"/>
                        </a:rPr>
                        <a:t>Balance in 4.7 year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990720" y="2743200"/>
          <a:ext cx="2437920" cy="790560"/>
        </p:xfrm>
        <a:graphic>
          <a:graphicData uri="http://schemas.openxmlformats.org/drawingml/2006/table">
            <a:tbl>
              <a:tblPr/>
              <a:tblGrid>
                <a:gridCol w="24379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elvetica Condensed"/>
                        </a:rPr>
                        <a:t>Repayment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elvetica Condensed"/>
                        </a:rPr>
                        <a:t>Total interest pa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4114800" y="3581280"/>
          <a:ext cx="3885840" cy="395280"/>
        </p:xfrm>
        <a:graphic>
          <a:graphicData uri="http://schemas.openxmlformats.org/drawingml/2006/table">
            <a:tbl>
              <a:tblPr/>
              <a:tblGrid>
                <a:gridCol w="38858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elvetica Condensed"/>
                        </a:rPr>
                        <a:t>Total interest savings: $89,5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58" name=""/>
          <p:cNvSpPr/>
          <p:nvPr/>
        </p:nvSpPr>
        <p:spPr>
          <a:xfrm>
            <a:off x="4087800" y="2362320"/>
            <a:ext cx="127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Condensed"/>
              </a:rPr>
              <a:t>$126,0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883920" y="2362320"/>
            <a:ext cx="13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Condensed"/>
              </a:rPr>
              <a:t>$126,19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914040" y="2301480"/>
            <a:ext cx="80010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0" algn="ctr">
              <a:spcBef>
                <a:spcPts val="624"/>
              </a:spcBef>
              <a:buNone/>
              <a:tabLst>
                <a:tab algn="l" pos="0"/>
                <a:tab algn="ctr" pos="1828800"/>
                <a:tab algn="ctr" pos="4122720"/>
                <a:tab algn="ctr" pos="63421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Helvetica Condensed"/>
              </a:rPr>
              <a:t>Now invest the available $1,199.10 per month for the remainder of the 18.7 year term and realize a potential nest egg of:</a:t>
            </a:r>
            <a:endParaRPr b="0" lang="en-US" sz="25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261" name=""/>
          <p:cNvSpPr/>
          <p:nvPr/>
        </p:nvSpPr>
        <p:spPr>
          <a:xfrm>
            <a:off x="1728360" y="4338720"/>
            <a:ext cx="187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6%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$494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977640" y="4338720"/>
            <a:ext cx="187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8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$619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228720" y="4338720"/>
            <a:ext cx="187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0%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$782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title"/>
          </p:nvPr>
        </p:nvSpPr>
        <p:spPr>
          <a:xfrm>
            <a:off x="609480" y="10666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Condensed"/>
              </a:rPr>
              <a:t>Your home is </a:t>
            </a:r>
            <a:r>
              <a:rPr b="1" lang="en-US" sz="3200" spc="-1" strike="noStrike">
                <a:solidFill>
                  <a:srgbClr val="000000"/>
                </a:solidFill>
                <a:latin typeface="Helvetica Condensed"/>
              </a:rPr>
              <a:t>paid off</a:t>
            </a:r>
            <a:r>
              <a:rPr b="0" lang="en-US" sz="3200" spc="-1" strike="noStrike">
                <a:solidFill>
                  <a:srgbClr val="000000"/>
                </a:solidFill>
                <a:latin typeface="Helvetica Condensed"/>
              </a:rPr>
              <a:t> in </a:t>
            </a:r>
            <a:r>
              <a:rPr b="1" lang="en-US" sz="3200" spc="-1" strike="noStrike">
                <a:solidFill>
                  <a:srgbClr val="000000"/>
                </a:solidFill>
                <a:latin typeface="Helvetica Condensed"/>
              </a:rPr>
              <a:t>11.3</a:t>
            </a:r>
            <a:r>
              <a:rPr b="0" lang="en-US" sz="3200" spc="-1" strike="noStrike">
                <a:solidFill>
                  <a:srgbClr val="000000"/>
                </a:solidFill>
                <a:latin typeface="Helvetica Condensed"/>
              </a:rPr>
              <a:t> years</a:t>
            </a:r>
            <a:r>
              <a:rPr b="1" lang="en-US" sz="3200" spc="-1" strike="noStrike">
                <a:solidFill>
                  <a:srgbClr val="000000"/>
                </a:solidFill>
                <a:latin typeface="Helvetica Condensed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Condensed"/>
              </a:rPr>
              <a:t>plus…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nancial Optomology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218960" y="2285640"/>
            <a:ext cx="7924680" cy="41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Helvetica Condensed"/>
              </a:rPr>
              <a:t>Option A</a:t>
            </a: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Helvetica Condensed"/>
              </a:rPr>
              <a:t>Option B</a:t>
            </a: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Years to pay off mortgage           11.3               29.6</a:t>
            </a: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Effective interest rate</a:t>
            </a: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    2.065%</a:t>
            </a: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         5.5%</a:t>
            </a: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Interest paid</a:t>
            </a: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   $45,000</a:t>
            </a: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  $143,000</a:t>
            </a: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954080" y="1206360"/>
            <a:ext cx="673272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Helvetica Condensed"/>
              </a:rPr>
              <a:t>Component #1</a:t>
            </a:r>
            <a:endParaRPr b="0" lang="en-US" sz="3200" spc="-1" strike="noStrike">
              <a:solidFill>
                <a:srgbClr val="000000"/>
              </a:solidFill>
              <a:latin typeface="Helvetica Condensed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Helvetica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Your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Helvetica Condensed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 Mortgage</a:t>
            </a: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Condensed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Helvetica Condensed"/>
              </a:rPr>
              <a:t>Closed-End Loan:</a:t>
            </a:r>
            <a:endParaRPr b="0" lang="en-US" sz="2800" spc="-1" strike="noStrike">
              <a:solidFill>
                <a:srgbClr val="000000"/>
              </a:solidFill>
              <a:latin typeface="Helvetica Condensed"/>
            </a:endParaRPr>
          </a:p>
          <a:p>
            <a:pPr lvl="1" marL="99072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Helvetica Condensed"/>
              </a:rPr>
              <a:t>The bank will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Helvetica Condensed"/>
              </a:rPr>
              <a:t>ONLY</a:t>
            </a:r>
            <a:r>
              <a:rPr b="0" i="1" lang="en-US" sz="2200" spc="-1" strike="noStrike">
                <a:solidFill>
                  <a:srgbClr val="000000"/>
                </a:solidFill>
                <a:latin typeface="Helvetica Condensed"/>
              </a:rPr>
              <a:t> apply monies once a month to this type of loan and will only apply a full payment to adjust principal balance</a:t>
            </a:r>
            <a:endParaRPr b="0" lang="en-US" sz="22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816768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rebuchet MS"/>
              </a:rPr>
              <a:t>Component #1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-Your 1</a:t>
            </a:r>
            <a:r>
              <a:rPr b="0" lang="en-US" sz="1400" spc="-1" strike="noStrike" baseline="30000">
                <a:solidFill>
                  <a:srgbClr val="ffffff"/>
                </a:solidFill>
                <a:latin typeface="Trebuchet MS"/>
              </a:rPr>
              <a:t>st</a:t>
            </a: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 Mortgage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828440" y="835200"/>
            <a:ext cx="7010280" cy="50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r" pos="1828800"/>
                <a:tab algn="l" pos="2293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Helvetica Condensed"/>
              </a:rPr>
              <a:t>Closed-End Loan</a:t>
            </a:r>
            <a:endParaRPr b="0" lang="en-US" sz="2800" spc="-1" strike="noStrike">
              <a:solidFill>
                <a:srgbClr val="000000"/>
              </a:solidFill>
              <a:latin typeface="Helvetica Condensed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r" pos="1828800"/>
                <a:tab algn="l" pos="2293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Condense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r" pos="1828800"/>
                <a:tab algn="l" pos="2293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Helvetica Condensed"/>
              </a:rPr>
              <a:t>$200,000</a:t>
            </a:r>
            <a:r>
              <a:rPr b="0" lang="en-US" sz="28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Principal loan amount</a:t>
            </a: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r" pos="1828800"/>
                <a:tab algn="l" pos="2293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Condensed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Helvetica Condensed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Helvetica Condensed"/>
              </a:rPr>
              <a:t>6% </a:t>
            </a:r>
            <a:r>
              <a:rPr b="0" lang="en-US" sz="28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Interest</a:t>
            </a: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r" pos="1828800"/>
                <a:tab algn="l" pos="2293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Helvetica Condensed"/>
              </a:rPr>
              <a:t>$    1,199</a:t>
            </a:r>
            <a:r>
              <a:rPr b="0" lang="en-US" sz="28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Monthly payment</a:t>
            </a: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r" pos="1828800"/>
                <a:tab algn="l" pos="2293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Helvetica Condensed"/>
              </a:rPr>
              <a:t>x       360</a:t>
            </a:r>
            <a:r>
              <a:rPr b="0" lang="en-US" sz="28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Months  (30 year loan)</a:t>
            </a: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r" pos="1828800"/>
                <a:tab algn="l" pos="2293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Helvetica Condensed"/>
              </a:rPr>
              <a:t>$431,677</a:t>
            </a:r>
            <a:r>
              <a:rPr b="0" lang="en-US" sz="28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Total repayment</a:t>
            </a: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r" pos="1828800"/>
                <a:tab algn="l" pos="2293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Condense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r" pos="1828800"/>
                <a:tab algn="l" pos="2293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Helvetica Condensed"/>
              </a:rPr>
              <a:t>-$200,000</a:t>
            </a:r>
            <a:r>
              <a:rPr b="0" lang="en-US" sz="2800" spc="-1" strike="noStrike">
                <a:solidFill>
                  <a:srgbClr val="000000"/>
                </a:solidFill>
                <a:latin typeface="Helvetica Condensed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Principal loan amount</a:t>
            </a: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r" pos="1828800"/>
                <a:tab algn="l" pos="2293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Helvetica Condensed"/>
              </a:rPr>
              <a:t>	</a:t>
            </a:r>
            <a:r>
              <a:rPr b="0" lang="en-US" sz="2800" spc="-1" strike="noStrike">
                <a:solidFill>
                  <a:srgbClr val="a50021"/>
                </a:solidFill>
                <a:latin typeface="Helvetica Condensed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Helvetica Condensed"/>
              </a:rPr>
              <a:t>$231,677</a:t>
            </a:r>
            <a:r>
              <a:rPr b="0" lang="en-US" sz="28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Total interest paid</a:t>
            </a: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0"/>
            <a:ext cx="816768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rebuchet MS"/>
              </a:rPr>
              <a:t>Component #1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-Your 1</a:t>
            </a:r>
            <a:r>
              <a:rPr b="0" lang="en-US" sz="1400" spc="-1" strike="noStrike" baseline="30000">
                <a:solidFill>
                  <a:srgbClr val="ffffff"/>
                </a:solidFill>
                <a:latin typeface="Trebuchet MS"/>
              </a:rPr>
              <a:t>st</a:t>
            </a: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 Mortgage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218960" y="1523880"/>
            <a:ext cx="7924680" cy="488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Condensed"/>
              </a:rPr>
              <a:t>Amortized Loan:  $200,000 @ 6% = $1,199</a:t>
            </a:r>
            <a:endParaRPr b="0" lang="en-US" sz="2200" spc="-1" strike="noStrike">
              <a:solidFill>
                <a:srgbClr val="000000"/>
              </a:solidFill>
              <a:latin typeface="Helvetica Condensed"/>
            </a:endParaRPr>
          </a:p>
          <a:p>
            <a:pPr marL="591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Condensed"/>
              </a:rPr>
              <a:t>                                                            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Helvetica Condensed"/>
              </a:rPr>
              <a:t>Total</a:t>
            </a:r>
            <a:endParaRPr b="0" lang="en-US" sz="2200" spc="-1" strike="noStrike">
              <a:solidFill>
                <a:srgbClr val="000000"/>
              </a:solidFill>
              <a:latin typeface="Helvetica Condensed"/>
            </a:endParaRPr>
          </a:p>
          <a:p>
            <a:pPr marL="591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Helvetica Condensed"/>
              </a:rPr>
              <a:t>Years</a:t>
            </a:r>
            <a:r>
              <a:rPr b="0" lang="en-US" sz="2200" spc="-1" strike="noStrike">
                <a:solidFill>
                  <a:srgbClr val="000000"/>
                </a:solidFill>
                <a:latin typeface="Helvetica Condensed"/>
              </a:rPr>
              <a:t>  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Helvetica Condensed"/>
              </a:rPr>
              <a:t>Principal</a:t>
            </a:r>
            <a:r>
              <a:rPr b="0" lang="en-US" sz="2200" spc="-1" strike="noStrike">
                <a:solidFill>
                  <a:srgbClr val="000000"/>
                </a:solidFill>
                <a:latin typeface="Helvetica Condensed"/>
              </a:rPr>
              <a:t> 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Helvetica Condensed"/>
              </a:rPr>
              <a:t>Interest</a:t>
            </a:r>
            <a:r>
              <a:rPr b="0" lang="en-US" sz="2200" spc="-1" strike="noStrike">
                <a:solidFill>
                  <a:srgbClr val="000000"/>
                </a:solidFill>
                <a:latin typeface="Helvetica Condensed"/>
              </a:rPr>
              <a:t>     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Helvetica Condensed"/>
              </a:rPr>
              <a:t>Balance </a:t>
            </a:r>
            <a:r>
              <a:rPr b="0" lang="en-US" sz="2200" spc="-1" strike="noStrike">
                <a:solidFill>
                  <a:srgbClr val="000000"/>
                </a:solidFill>
                <a:latin typeface="Helvetica Condensed"/>
              </a:rPr>
              <a:t>    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Helvetica Condensed"/>
              </a:rPr>
              <a:t>Equity</a:t>
            </a:r>
            <a:r>
              <a:rPr b="0" lang="en-US" sz="2200" spc="-1" strike="noStrike">
                <a:solidFill>
                  <a:srgbClr val="000000"/>
                </a:solidFill>
                <a:latin typeface="Helvetica Condensed"/>
              </a:rPr>
              <a:t>    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Helvetica Condensed"/>
              </a:rPr>
              <a:t>Payments</a:t>
            </a:r>
            <a:endParaRPr b="0" lang="en-US" sz="2200" spc="-1" strike="noStrike">
              <a:solidFill>
                <a:srgbClr val="000000"/>
              </a:solidFill>
              <a:latin typeface="Helvetica Condensed"/>
            </a:endParaRPr>
          </a:p>
          <a:p>
            <a:pPr marL="591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Condensed"/>
              </a:rPr>
              <a:t>Mo. 1</a:t>
            </a:r>
            <a:r>
              <a:rPr b="0" lang="en-US" sz="22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Helvetica Condensed"/>
              </a:rPr>
              <a:t>  199.10  1000.00    </a:t>
            </a:r>
            <a:endParaRPr b="0" lang="en-US" sz="2200" spc="-1" strike="noStrike">
              <a:solidFill>
                <a:srgbClr val="000000"/>
              </a:solidFill>
              <a:latin typeface="Helvetica Condensed"/>
            </a:endParaRPr>
          </a:p>
          <a:p>
            <a:pPr marL="591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Condensed"/>
              </a:rPr>
              <a:t>Mo. 2</a:t>
            </a:r>
            <a:r>
              <a:rPr b="0" lang="en-US" sz="22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Helvetica Condensed"/>
              </a:rPr>
              <a:t>  200.10    999.00</a:t>
            </a:r>
            <a:r>
              <a:rPr b="0" lang="en-US" sz="2200" spc="-1" strike="noStrike">
                <a:solidFill>
                  <a:srgbClr val="000000"/>
                </a:solidFill>
                <a:latin typeface="Helvetica Condensed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Helvetica Condensed"/>
            </a:endParaRPr>
          </a:p>
          <a:p>
            <a:pPr marL="591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Condensed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Helvetica Condensed"/>
              </a:rPr>
              <a:t>1 Yr.</a:t>
            </a:r>
            <a:r>
              <a:rPr b="0" lang="en-US" sz="22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Helvetica Condensed"/>
              </a:rPr>
              <a:t>  210.33    988.77</a:t>
            </a:r>
            <a:r>
              <a:rPr b="0" lang="en-US" sz="22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Helvetica Condensed"/>
              </a:rPr>
              <a:t>197,543       2,457</a:t>
            </a:r>
            <a:r>
              <a:rPr b="0" lang="en-US" sz="22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Helvetica Condensed"/>
              </a:rPr>
              <a:t>  14,389</a:t>
            </a:r>
            <a:endParaRPr b="0" lang="en-US" sz="2200" spc="-1" strike="noStrike">
              <a:solidFill>
                <a:srgbClr val="000000"/>
              </a:solidFill>
              <a:latin typeface="Helvetica Condensed"/>
            </a:endParaRPr>
          </a:p>
          <a:p>
            <a:pPr marL="591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Condensed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Helvetica Condensed"/>
              </a:rPr>
              <a:t>5 Yr.</a:t>
            </a:r>
            <a:r>
              <a:rPr b="0" lang="en-US" sz="22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Helvetica Condensed"/>
              </a:rPr>
              <a:t>  267.22    931.88</a:t>
            </a:r>
            <a:r>
              <a:rPr b="0" lang="en-US" sz="22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Helvetica Condensed"/>
              </a:rPr>
              <a:t>186,108     13,891</a:t>
            </a:r>
            <a:r>
              <a:rPr b="0" lang="en-US" sz="22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Helvetica Condensed"/>
              </a:rPr>
              <a:t>  71,946</a:t>
            </a:r>
            <a:endParaRPr b="0" lang="en-US" sz="2200" spc="-1" strike="noStrike">
              <a:solidFill>
                <a:srgbClr val="000000"/>
              </a:solidFill>
              <a:latin typeface="Helvetica Condensed"/>
            </a:endParaRPr>
          </a:p>
          <a:p>
            <a:pPr marL="591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Condensed"/>
              </a:rPr>
              <a:t>10 Yr.</a:t>
            </a:r>
            <a:r>
              <a:rPr b="0" lang="en-US" sz="22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Helvetica Condensed"/>
              </a:rPr>
              <a:t>  360.44    838.66</a:t>
            </a:r>
            <a:r>
              <a:rPr b="0" lang="en-US" sz="22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Helvetica Condensed"/>
              </a:rPr>
              <a:t>167,371     32,628</a:t>
            </a:r>
            <a:r>
              <a:rPr b="0" lang="en-US" sz="22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Helvetica Condensed"/>
              </a:rPr>
              <a:t>143,891</a:t>
            </a:r>
            <a:endParaRPr b="0" lang="en-US" sz="2200" spc="-1" strike="noStrike">
              <a:solidFill>
                <a:srgbClr val="000000"/>
              </a:solidFill>
              <a:latin typeface="Helvetica Condensed"/>
            </a:endParaRPr>
          </a:p>
          <a:p>
            <a:pPr marL="591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Condensed"/>
              </a:rPr>
              <a:t>21 Yr.</a:t>
            </a:r>
            <a:r>
              <a:rPr b="0" lang="en-US" sz="22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Helvetica Condensed"/>
              </a:rPr>
              <a:t>  696.23    502.87</a:t>
            </a:r>
            <a:r>
              <a:rPr b="0" lang="en-US" sz="22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Helvetica Condensed"/>
              </a:rPr>
              <a:t>100,573     99,436</a:t>
            </a:r>
            <a:r>
              <a:rPr b="0" lang="en-US" sz="22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Helvetica Condensed"/>
              </a:rPr>
              <a:t>300,974</a:t>
            </a:r>
            <a:endParaRPr b="0" lang="en-US" sz="22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816768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rebuchet MS"/>
              </a:rPr>
              <a:t>Component #1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-Your 1</a:t>
            </a:r>
            <a:r>
              <a:rPr b="0" lang="en-US" sz="1400" spc="-1" strike="noStrike" baseline="30000">
                <a:solidFill>
                  <a:srgbClr val="ffffff"/>
                </a:solidFill>
                <a:latin typeface="Trebuchet MS"/>
              </a:rPr>
              <a:t>st</a:t>
            </a: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 Mortgage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828440" y="1828800"/>
            <a:ext cx="65689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r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Helvetica Condensed"/>
              </a:rPr>
              <a:t>Traditional Prepayment Example</a:t>
            </a:r>
            <a:endParaRPr b="0" lang="en-US" sz="2800" spc="-1" strike="noStrike">
              <a:solidFill>
                <a:srgbClr val="000000"/>
              </a:solidFill>
              <a:latin typeface="Helvetica Condensed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r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Condense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Helvetica Condensed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r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Helvetica Condensed"/>
              </a:rPr>
              <a:t>$1,199</a:t>
            </a:r>
            <a:r>
              <a:rPr b="0" lang="en-US" sz="28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Helvetica Condensed"/>
              </a:rPr>
              <a:t>First monthly payment</a:t>
            </a:r>
            <a:endParaRPr b="0" lang="en-US" sz="2800" spc="-1" strike="noStrike">
              <a:solidFill>
                <a:srgbClr val="000000"/>
              </a:solidFill>
              <a:latin typeface="Helvetica Condensed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r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Helvetica Condensed"/>
              </a:rPr>
              <a:t>$5,000</a:t>
            </a:r>
            <a:r>
              <a:rPr b="0" lang="en-US" sz="28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Helvetica Condensed"/>
              </a:rPr>
              <a:t>Additional principal payment</a:t>
            </a:r>
            <a:endParaRPr b="0" lang="en-US" sz="2800" spc="-1" strike="noStrike">
              <a:solidFill>
                <a:srgbClr val="000000"/>
              </a:solidFill>
              <a:latin typeface="Helvetica Condensed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r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Helvetica Condensed"/>
              </a:rPr>
              <a:t>$6,199</a:t>
            </a:r>
            <a:r>
              <a:rPr b="0" lang="en-US" sz="28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Helvetica Condensed"/>
              </a:rPr>
              <a:t>Total first payment</a:t>
            </a:r>
            <a:endParaRPr b="0" lang="en-US" sz="2800" spc="-1" strike="noStrike">
              <a:solidFill>
                <a:srgbClr val="000000"/>
              </a:solidFill>
              <a:latin typeface="Helvetica Condensed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r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Condensed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r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816768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rebuchet MS"/>
              </a:rPr>
              <a:t>Component #1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-Your 1</a:t>
            </a:r>
            <a:r>
              <a:rPr b="0" lang="en-US" sz="1400" spc="-1" strike="noStrike" baseline="30000">
                <a:solidFill>
                  <a:srgbClr val="ffffff"/>
                </a:solidFill>
                <a:latin typeface="Trebuchet MS"/>
              </a:rPr>
              <a:t>st</a:t>
            </a: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 Mortgage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0"/>
            <a:ext cx="816768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rebuchet MS"/>
              </a:rPr>
              <a:t>Component #1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-Your 1</a:t>
            </a:r>
            <a:r>
              <a:rPr b="0" lang="en-US" sz="1400" spc="-1" strike="noStrike" baseline="30000">
                <a:solidFill>
                  <a:srgbClr val="ffffff"/>
                </a:solidFill>
                <a:latin typeface="Trebuchet MS"/>
              </a:rPr>
              <a:t>st</a:t>
            </a: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 Mortgage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600200" y="838080"/>
            <a:ext cx="7238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r" pos="1828800"/>
                <a:tab algn="l" pos="2293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Helvetica Condensed"/>
              </a:rPr>
              <a:t>Prepayment Savings Example</a:t>
            </a:r>
            <a:r>
              <a:rPr b="0" lang="en-US" sz="2700" spc="-1" strike="noStrike">
                <a:solidFill>
                  <a:srgbClr val="000000"/>
                </a:solidFill>
                <a:latin typeface="Helvetica Condensed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r" pos="1828800"/>
                <a:tab algn="l" pos="2293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Condensed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r" pos="1828800"/>
                <a:tab algn="l" pos="2293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Helvetica Condensed"/>
              </a:rPr>
              <a:t>$195,000</a:t>
            </a:r>
            <a:r>
              <a:rPr b="0" lang="en-US" sz="27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Helvetica Condensed"/>
              </a:rPr>
              <a:t>New principal loan balance</a:t>
            </a: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r" pos="1828800"/>
                <a:tab algn="l" pos="2293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elvetica Condensed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Helvetica Condensed"/>
              </a:rPr>
              <a:t>      </a:t>
            </a:r>
            <a:r>
              <a:rPr b="0" lang="en-US" sz="2700" spc="-1" strike="noStrike">
                <a:solidFill>
                  <a:srgbClr val="000000"/>
                </a:solidFill>
                <a:latin typeface="Helvetica Condensed"/>
              </a:rPr>
              <a:t>6%</a:t>
            </a:r>
            <a:r>
              <a:rPr b="0" lang="en-US" sz="27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Helvetica Condensed"/>
              </a:rPr>
              <a:t>Interest rate</a:t>
            </a: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r" pos="1828800"/>
                <a:tab algn="l" pos="2293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Helvetica Condensed"/>
              </a:rPr>
              <a:t>$    1,199</a:t>
            </a:r>
            <a:r>
              <a:rPr b="0" lang="en-US" sz="27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Helvetica Condensed"/>
              </a:rPr>
              <a:t>Monthly payment</a:t>
            </a: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r" pos="1828800"/>
                <a:tab algn="l" pos="2293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elvetica Condensed"/>
              </a:rPr>
              <a:t>     </a:t>
            </a:r>
            <a:r>
              <a:rPr b="0" lang="en-US" sz="27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Helvetica Condensed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Helvetica Condensed"/>
              </a:rPr>
              <a:t>359</a:t>
            </a:r>
            <a:r>
              <a:rPr b="0" lang="en-US" sz="27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Helvetica Condensed"/>
              </a:rPr>
              <a:t>Months</a:t>
            </a: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r" pos="1828800"/>
                <a:tab algn="l" pos="2293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Helvetica Condensed"/>
              </a:rPr>
              <a:t>$231,677</a:t>
            </a:r>
            <a:r>
              <a:rPr b="0" lang="en-US" sz="27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Helvetica Condensed"/>
              </a:rPr>
              <a:t>Original interest paid</a:t>
            </a: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r" pos="1828800"/>
                <a:tab algn="l" pos="2293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Helvetica Condensed"/>
              </a:rPr>
              <a:t>$203,373</a:t>
            </a:r>
            <a:r>
              <a:rPr b="0" lang="en-US" sz="27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Helvetica Condensed"/>
              </a:rPr>
              <a:t>New interest paid</a:t>
            </a: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r" pos="1828800"/>
                <a:tab algn="l" pos="2293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Helvetica Condensed"/>
              </a:rPr>
              <a:t>$ 28,304</a:t>
            </a: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r" pos="1828800"/>
                <a:tab algn="l" pos="2293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Helvetica Condensed"/>
              </a:rPr>
              <a:t>-$  5,000</a:t>
            </a:r>
            <a:r>
              <a:rPr b="0" lang="en-US" sz="27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Helvetica Condensed"/>
              </a:rPr>
              <a:t>Additional principal payment</a:t>
            </a: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r" pos="1828800"/>
                <a:tab algn="l" pos="2293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1" lang="en-US" sz="2700" spc="-1" strike="noStrike">
                <a:solidFill>
                  <a:srgbClr val="006600"/>
                </a:solidFill>
                <a:latin typeface="Helvetica Condensed"/>
              </a:rPr>
              <a:t>$  23,304</a:t>
            </a:r>
            <a:r>
              <a:rPr b="0" lang="en-US" sz="27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Helvetica Condensed"/>
              </a:rPr>
              <a:t>Total</a:t>
            </a:r>
            <a:r>
              <a:rPr b="0" lang="en-US" sz="2700" spc="-1" strike="noStrike">
                <a:solidFill>
                  <a:srgbClr val="000000"/>
                </a:solidFill>
                <a:latin typeface="Helvetica Condensed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Helvetica Condensed"/>
              </a:rPr>
              <a:t>Savings</a:t>
            </a: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752480" y="1371600"/>
            <a:ext cx="6569280" cy="47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Helvetica Condensed"/>
              </a:rPr>
              <a:t>Conventional Banking</a:t>
            </a:r>
            <a:endParaRPr b="0" lang="en-US" sz="3200" spc="-1" strike="noStrike">
              <a:solidFill>
                <a:srgbClr val="000000"/>
              </a:solidFill>
              <a:latin typeface="Helvetica Condensed"/>
            </a:endParaRPr>
          </a:p>
          <a:p>
            <a:pPr lvl="1" marL="990720" indent="-533520">
              <a:spcBef>
                <a:spcPts val="64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Refinance to lower interest rate</a:t>
            </a:r>
            <a:endParaRPr b="0" lang="en-US" sz="2600" spc="-1" strike="noStrike">
              <a:solidFill>
                <a:srgbClr val="000000"/>
              </a:solidFill>
              <a:latin typeface="Helvetica Condensed"/>
            </a:endParaRPr>
          </a:p>
          <a:p>
            <a:pPr lvl="1" marL="990720" indent="-533520">
              <a:spcBef>
                <a:spcPts val="64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Apply more money to principal</a:t>
            </a:r>
            <a:endParaRPr b="0" lang="en-US" sz="2600" spc="-1" strike="noStrike">
              <a:solidFill>
                <a:srgbClr val="000000"/>
              </a:solidFill>
              <a:latin typeface="Helvetica Condensed"/>
            </a:endParaRPr>
          </a:p>
          <a:p>
            <a:pPr lvl="1" marL="990720" indent="-533520">
              <a:spcBef>
                <a:spcPts val="64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Bi-weekly mortgage payment</a:t>
            </a:r>
            <a:endParaRPr b="0" lang="en-US" sz="2600" spc="-1" strike="noStrike">
              <a:solidFill>
                <a:srgbClr val="000000"/>
              </a:solidFill>
              <a:latin typeface="Helvetica Condense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Condense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Helvetica Condensed"/>
              </a:rPr>
              <a:t>MMA System</a:t>
            </a:r>
            <a:endParaRPr b="0" lang="en-US" sz="3200" spc="-1" strike="noStrike">
              <a:solidFill>
                <a:srgbClr val="000000"/>
              </a:solidFill>
              <a:latin typeface="Helvetica Condensed"/>
            </a:endParaRPr>
          </a:p>
          <a:p>
            <a:pPr lvl="1" marL="990720" indent="-533520">
              <a:spcBef>
                <a:spcPts val="64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No refinancing necessary</a:t>
            </a:r>
            <a:endParaRPr b="0" lang="en-US" sz="2600" spc="-1" strike="noStrike">
              <a:solidFill>
                <a:srgbClr val="000000"/>
              </a:solidFill>
              <a:latin typeface="Helvetica Condensed"/>
            </a:endParaRPr>
          </a:p>
          <a:p>
            <a:pPr lvl="1" marL="990720" indent="-533520">
              <a:spcBef>
                <a:spcPts val="64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No alteration to current cash flow</a:t>
            </a:r>
            <a:endParaRPr b="0" lang="en-US" sz="26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0"/>
            <a:ext cx="816768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rebuchet MS"/>
              </a:rPr>
              <a:t>Component #1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-Your 1</a:t>
            </a:r>
            <a:r>
              <a:rPr b="0" lang="en-US" sz="1400" spc="-1" strike="noStrike" baseline="30000">
                <a:solidFill>
                  <a:srgbClr val="ffffff"/>
                </a:solidFill>
                <a:latin typeface="Trebuchet MS"/>
              </a:rPr>
              <a:t>st</a:t>
            </a: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 Mortgage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981080" y="1054080"/>
            <a:ext cx="627552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Helvetica Condensed"/>
              </a:rPr>
              <a:t>Component #2</a:t>
            </a:r>
            <a:endParaRPr b="0" lang="en-US" sz="3200" spc="-1" strike="noStrike">
              <a:solidFill>
                <a:srgbClr val="000000"/>
              </a:solidFill>
              <a:latin typeface="Helvetica Condensed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  <a:p>
            <a:pPr lvl="1" marL="990720" indent="-533520">
              <a:spcBef>
                <a:spcPts val="601"/>
              </a:spcBef>
              <a:buClr>
                <a:srgbClr val="808080"/>
              </a:buClr>
              <a:buFont typeface="Helvetica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Helvetica Condensed"/>
              </a:rPr>
              <a:t>Your 1</a:t>
            </a:r>
            <a:r>
              <a:rPr b="0" lang="en-US" sz="2400" spc="-1" strike="noStrike" baseline="30000">
                <a:solidFill>
                  <a:srgbClr val="808080"/>
                </a:solidFill>
                <a:latin typeface="Helvetica Condensed"/>
              </a:rPr>
              <a:t>st</a:t>
            </a:r>
            <a:r>
              <a:rPr b="0" lang="en-US" sz="2400" spc="-1" strike="noStrike">
                <a:solidFill>
                  <a:srgbClr val="808080"/>
                </a:solidFill>
                <a:latin typeface="Helvetica Condensed"/>
              </a:rPr>
              <a:t> Mortgage</a:t>
            </a: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Helvetica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Advanced Line of Credit  (ALOC)</a:t>
            </a: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Helvetica Condensed"/>
              </a:rPr>
              <a:t>Open-End Loan</a:t>
            </a:r>
            <a:endParaRPr b="0" lang="en-US" sz="2800" spc="-1" strike="noStrike">
              <a:solidFill>
                <a:srgbClr val="000000"/>
              </a:solidFill>
              <a:latin typeface="Helvetica Condensed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Helvetica Condensed"/>
              </a:rPr>
              <a:t>The Bank will apply money to this type of loan when received and adjust principal balance multiple times per month.</a:t>
            </a: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816768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rebuchet MS"/>
              </a:rPr>
              <a:t>Component #2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-Your 1</a:t>
            </a:r>
            <a:r>
              <a:rPr b="0" lang="en-US" sz="1400" spc="-1" strike="noStrike" baseline="30000">
                <a:solidFill>
                  <a:srgbClr val="808080"/>
                </a:solidFill>
                <a:latin typeface="Trebuchet MS"/>
              </a:rPr>
              <a:t>st</a:t>
            </a: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Mortgage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-ALOC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2T01:07:49Z</dcterms:created>
  <dc:creator>Don Jorgensen</dc:creator>
  <dc:description/>
  <dc:language>en-US</dc:language>
  <cp:lastModifiedBy>richard</cp:lastModifiedBy>
  <dcterms:modified xsi:type="dcterms:W3CDTF">2006-09-04T23:43:05Z</dcterms:modified>
  <cp:revision>105</cp:revision>
  <dc:subject/>
  <dc:title>Slide 1</dc:title>
</cp:coreProperties>
</file>