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41F-C63D-46FF-8675-92C04B26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09480" y="40687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F1C-07B6-47FA-9B88-EBB651D0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252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FE7-980A-4FE6-984C-8AB713AE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186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78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094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186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78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F22-7A42-4197-BB2A-D04D6712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3FD5-7DB3-4A35-BBA9-1041C788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F688-13C6-4200-B2BD-A201FBF0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8ED4-7ABD-4DF4-A49B-EFDF057B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FAA3-51D7-4DF0-91A4-86E67217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8EA3-C4BD-4B29-BDB0-B4FF3D32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0138-041D-4EEE-86A9-ED94E62F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9E17-0DAA-4861-9EAC-DB50CC1F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227-9518-4559-809F-76C004BC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1252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0AD9-1E79-4622-A606-B6918500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AD65-4870-49BF-B765-7E514633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09480" y="40687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D9C3-7B41-4A49-9FBE-E05DA667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1252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1389-99A2-41B3-9AEA-EF39569B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186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78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094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186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78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6B57-96ED-4ACE-B032-18121F55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1A98F-DCD4-4FBE-84D4-3603FA2C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0FBDA-C9CD-488A-B408-9303CA34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A70E-83D3-47B2-AF47-F60737D1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67101-767E-4119-8242-E0D6FB2E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F754-7FE0-4179-B035-DE6A4F67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784-6B92-4038-9544-FDE2D9ED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5CE9-1FDF-4555-82A8-F4E41EA6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7B7A8-9998-440E-B4C0-74CFCB78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1252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D1D23-49BD-4B33-A220-5E50452D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C94DF-49EA-4A9E-BC52-513176A3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09480" y="40687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7505B-BA99-4FCA-A699-D8CEC13E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1252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9C325-A2BC-400E-AD1C-E799A832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186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78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094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186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78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4C67E-B41E-435B-A221-657CAF75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783FC-FDD3-43FA-9707-81F0F5CA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ED17C-4996-46CE-9B59-59141AA4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EB576-A798-4549-8915-382F4AE1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BB1A-402C-4128-BAB5-171851D9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23A05-BDDD-4832-94FF-1B445D09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5CA09-655A-4CE9-BD8E-88EC9FAD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CB64-8C3A-410E-9316-05B28AB4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95199-2D19-4017-9A6D-DDEE47B3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252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B5E6-1987-4DD5-9E52-5FCD8BD5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F1180-A27E-401A-8712-34122693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09480" y="40687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290CF-6E42-41CD-8399-3486A76C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1252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6371D-45BA-436A-954F-38455075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186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7880" y="15145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094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186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7880" y="4068720"/>
            <a:ext cx="23893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C974D-5FD5-4BEF-9299-CBA5D105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C9F2-5111-43F1-882D-15F76D99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C94-77B5-4668-B4E6-36CE143C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603-A8B9-402D-8353-B317D888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2520" y="40687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28B-6011-477D-B9C8-9EC85297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0948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2520" y="1514520"/>
            <a:ext cx="3621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09480" y="4068720"/>
            <a:ext cx="7421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312-9111-4A19-B9CB-1611D6D7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09480" y="1514520"/>
            <a:ext cx="74214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Helvetica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Helvetica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lvl="2" marL="1143000" indent="-228600">
              <a:spcBef>
                <a:spcPts val="675"/>
              </a:spcBef>
              <a:buClr>
                <a:srgbClr val="000000"/>
              </a:buClr>
              <a:buFont typeface="Helvetica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Helvetica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Helvetica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Helvetica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Helvetica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234800" y="6606720"/>
            <a:ext cx="190476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38160" y="6606720"/>
            <a:ext cx="289404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02360" y="6606720"/>
            <a:ext cx="190368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87A8-DDA2-4685-9959-9E544B9E3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4040" y="274680"/>
            <a:ext cx="81547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06720"/>
            <a:ext cx="190512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06720"/>
            <a:ext cx="289584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06720"/>
            <a:ext cx="1905120" cy="2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CAB0-1733-4FD9-8710-74CB14DCE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440" y="137880"/>
            <a:ext cx="784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34800" y="1446120"/>
            <a:ext cx="790884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6440" y="66247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57200" y="6624720"/>
            <a:ext cx="289404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24760" y="65833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B743-85E4-4202-8CBD-0E35BD28C9E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2004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678720"/>
            <a:ext cx="289584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7238880" y="6678720"/>
            <a:ext cx="1905120" cy="1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292D-B82E-45D5-B120-218BFA1BDCF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502920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523520" y="1190160"/>
            <a:ext cx="7162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Optimum Performance of ALOC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80640" indent="-528120">
              <a:spcBef>
                <a:spcPts val="550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Deposit maximum amount of money into the line 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806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of credit per month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80640" indent="-528120">
              <a:spcBef>
                <a:spcPts val="550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Keep it there as long as possible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80640" indent="-528120">
              <a:spcBef>
                <a:spcPts val="550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Least amount spent by the end of each month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ALOC Functionality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80640" indent="-528120">
              <a:spcBef>
                <a:spcPts val="550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Functions as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Helvetica Condensed"/>
              </a:rPr>
              <a:t>primary checking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account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80640" indent="-528120">
              <a:spcBef>
                <a:spcPts val="550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Deposit all of your income into ALOC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80640" indent="-528120">
              <a:spcBef>
                <a:spcPts val="550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Ability to pay all bills using ALOC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2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295280" y="1447560"/>
            <a:ext cx="777240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r" pos="1596960"/>
                <a:tab algn="l" pos="206064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Model Monthly Budget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r" pos="1596960"/>
                <a:tab algn="l" pos="206064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596960"/>
                <a:tab algn="l" pos="206064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$5,000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Monthly income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buNone/>
              <a:tabLst>
                <a:tab algn="l" pos="0"/>
                <a:tab algn="r" pos="1596960"/>
                <a:tab algn="l" pos="206064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Helvetica Condensed"/>
              </a:rPr>
              <a:t>-$4,000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Living expenses 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lnSpc>
                <a:spcPct val="65000"/>
              </a:lnSpc>
              <a:buNone/>
              <a:tabLst>
                <a:tab algn="l" pos="0"/>
                <a:tab algn="r" pos="1596960"/>
                <a:tab algn="l" pos="206064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Condensed"/>
              </a:rPr>
              <a:t>(mortgage, entertainment, car payment, etc.)</a:t>
            </a:r>
            <a:endParaRPr b="0" lang="en-US" sz="20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596960"/>
                <a:tab algn="l" pos="206064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$1,000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Discretionary income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2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371240" y="837720"/>
            <a:ext cx="7467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MMA Month 1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$60,000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Line of Credit available  (ALOC)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-$3,500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MMA one-time fe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Helvetica Condensed"/>
              </a:rPr>
              <a:t>-$4,000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Living expenses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-$7,500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Balance owed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-$7,500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Balance owed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Helvetica Condensed"/>
              </a:rPr>
              <a:t> 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Helvetica Condensed"/>
              </a:rPr>
              <a:t>$5,000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Paycheck (deposit)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-$2,500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New balance owed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The bank can only charge interest on $2,500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2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Helvetica Condensed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MMA Month 1 Conclusion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3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Starting balance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2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Ending balance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1155600" indent="-533160">
              <a:spcBef>
                <a:spcPts val="601"/>
              </a:spcBef>
              <a:buClr>
                <a:srgbClr val="4d4d4d"/>
              </a:buClr>
              <a:buFont typeface="Wingdings" charset="2"/>
              <a:buChar char=""/>
              <a:tabLst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You have never made a scheduled monthly paymen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249"/>
              </a:spcBef>
              <a:buNone/>
              <a:tabLst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1155600" indent="-533160">
              <a:spcBef>
                <a:spcPts val="601"/>
              </a:spcBef>
              <a:buClr>
                <a:srgbClr val="4d4d4d"/>
              </a:buClr>
              <a:buFont typeface="Wingdings" charset="2"/>
              <a:buChar char=""/>
              <a:tabLst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Your income represented your monthly paymen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7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Money borrowed from ALOC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2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Interest assessable balance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2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676160" y="762120"/>
            <a:ext cx="6553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You paid </a:t>
            </a:r>
            <a:r>
              <a:rPr b="1" lang="en-US" sz="2800" spc="-1" strike="noStrike">
                <a:solidFill>
                  <a:srgbClr val="000000"/>
                </a:solidFill>
                <a:latin typeface="Helvetica Condensed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 interest on the $4,000           you used to pay your living expenses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Your ALOC becomes an 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Condensed"/>
              </a:rPr>
              <a:t>Interest Cancellation Account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Tax deductible*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elvetica Condensed"/>
              </a:rPr>
              <a:t>*consult your tax adviser</a:t>
            </a:r>
            <a:endParaRPr b="0" lang="en-US" sz="10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2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76520" y="1143000"/>
            <a:ext cx="7162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Closed-End Loan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Eliminate interes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Control your money, so your money doesn’t control you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Get your money working for you instead of working for the bank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Open-End Loan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ncome forces adjustment to principal balanc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nterest Cancellation Accoun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2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828800" y="990360"/>
            <a:ext cx="627048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 Condensed"/>
              </a:rPr>
              <a:t>Component #3</a:t>
            </a:r>
            <a:endParaRPr b="0" lang="en-US" sz="3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60840" indent="-517320">
              <a:spcBef>
                <a:spcPts val="601"/>
              </a:spcBef>
              <a:buClr>
                <a:srgbClr val="80808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Helvetica Condensed"/>
              </a:rPr>
              <a:t>Your 1</a:t>
            </a:r>
            <a:r>
              <a:rPr b="0" lang="en-US" sz="2400" spc="-1" strike="noStrike" baseline="30000">
                <a:solidFill>
                  <a:srgbClr val="808080"/>
                </a:solidFill>
                <a:latin typeface="Helvetica Condensed"/>
              </a:rPr>
              <a:t>st</a:t>
            </a:r>
            <a:r>
              <a:rPr b="0" lang="en-US" sz="2400" spc="-1" strike="noStrike">
                <a:solidFill>
                  <a:srgbClr val="808080"/>
                </a:solidFill>
                <a:latin typeface="Helvetica Condensed"/>
              </a:rPr>
              <a:t> mortgage 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60840" indent="-517320">
              <a:spcBef>
                <a:spcPts val="601"/>
              </a:spcBef>
              <a:buClr>
                <a:srgbClr val="80808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Helvetica Condensed"/>
              </a:rPr>
              <a:t>Open-End ALOC 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MMA software and websit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3" marL="1699560" indent="-36936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Financial dashboard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3" marL="1699560" indent="-36936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Financial planning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3" marL="1699560" indent="-36936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Online account register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3" marL="1699560" indent="-36936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Maximizes money performanc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3" marL="1699560" indent="-36936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10 minutes per month to updat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294920" y="1038240"/>
            <a:ext cx="80010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The MMA Website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70560" indent="-5227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Does NOT move money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70560" indent="-5227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Does NOT pay bills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70560" indent="-5227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s user friendly softwar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70560" indent="-5227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s simple to updat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70560" indent="-5227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s a tracking tool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70560" indent="-5227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Functions as an account register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2" marL="1343880" indent="-447840">
              <a:spcBef>
                <a:spcPts val="601"/>
              </a:spcBef>
              <a:buClr>
                <a:srgbClr val="5f5f5f"/>
              </a:buClr>
              <a:buFont typeface="Helvetic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Wants to know how much money is coming in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2" marL="1343880" indent="-447840">
              <a:spcBef>
                <a:spcPts val="601"/>
              </a:spcBef>
              <a:buClr>
                <a:srgbClr val="5f5f5f"/>
              </a:buClr>
              <a:buFont typeface="Helvetic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Wants to know how much money is going ou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70560" indent="-5227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Tracks your monthly budge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70560" indent="-522720"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ncludes continuous customer suppor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08640" y="950760"/>
            <a:ext cx="22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18480" y="125568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981080" y="901800"/>
            <a:ext cx="5257800" cy="5118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752480" y="1828800"/>
            <a:ext cx="1447920" cy="801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352680" y="1447920"/>
            <a:ext cx="990720" cy="533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495680" y="1447920"/>
            <a:ext cx="914400" cy="533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5334120" y="1447920"/>
            <a:ext cx="2209680" cy="533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1916280" y="2514600"/>
            <a:ext cx="105552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2754360" y="2514600"/>
            <a:ext cx="1055520" cy="1143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3827520" y="2514600"/>
            <a:ext cx="112536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4594320" y="2133720"/>
            <a:ext cx="1349280" cy="228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5334120" y="2133720"/>
            <a:ext cx="1314360" cy="1904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2"/>
          <a:stretch/>
        </p:blipFill>
        <p:spPr>
          <a:xfrm>
            <a:off x="1523880" y="1447920"/>
            <a:ext cx="2514600" cy="533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3"/>
          <a:stretch/>
        </p:blipFill>
        <p:spPr>
          <a:xfrm>
            <a:off x="6324480" y="28195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4"/>
          <a:stretch/>
        </p:blipFill>
        <p:spPr>
          <a:xfrm>
            <a:off x="1981080" y="2971800"/>
            <a:ext cx="5257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762012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Understanding an Advanced Line of Credit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t is not a savings accoun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t is the vehicle that drives the MMA softwar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t cannot drop below a $0 balanc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361960" y="1676520"/>
            <a:ext cx="63514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Three Components of an MMA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You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Helvetica Condensed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 Mortgag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Advanced Line of Credit  (ALOC)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MMA Software &amp; Web Sit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371600" y="837720"/>
            <a:ext cx="7315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Helvetica Condensed"/>
              </a:rPr>
              <a:t>MMA Month 2</a:t>
            </a:r>
            <a:r>
              <a:rPr b="1" i="1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  2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Balance owed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  5,0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Pay down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Helvetica Condensed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 mortgage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Helvetica Condensed"/>
              </a:rPr>
              <a:t>-$  4,0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Living expenses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11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New balance owed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Helvetica Condensed"/>
              </a:rPr>
              <a:t>             </a:t>
            </a:r>
            <a:r>
              <a:rPr b="1" i="1" lang="en-US" sz="2600" spc="-1" strike="noStrike">
                <a:solidFill>
                  <a:srgbClr val="000000"/>
                </a:solidFill>
                <a:latin typeface="Helvetica Condensed"/>
              </a:rPr>
              <a:t>Interest Cancellation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11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Balance owed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Helvetica Condensed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Helvetica Condensed"/>
              </a:rPr>
              <a:t>$  5,0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Paycheck (deposit)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  6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New balance owed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The bank can only charge interest on $6,500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838080"/>
            <a:ext cx="80769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Helvetica Condensed"/>
              </a:rPr>
              <a:t>MMA Month 2 Con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2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Starting bal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11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New bal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6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End bal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55600" indent="-53316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"/>
              <a:tabLst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You have never made a scheduled monthly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5600" indent="-533160">
              <a:lnSpc>
                <a:spcPct val="100000"/>
              </a:lnSpc>
              <a:spcBef>
                <a:spcPts val="300"/>
              </a:spcBef>
              <a:buClr>
                <a:srgbClr val="4d4d4d"/>
              </a:buClr>
              <a:buFont typeface="Wingdings" charset="2"/>
              <a:buChar char=""/>
              <a:tabLst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55600" indent="-53316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"/>
              <a:tabLst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Your income represented your monthly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11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Money borrowed from ALO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r" pos="245268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-$6,500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Interest assessable bal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219320" y="1143000"/>
            <a:ext cx="76197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You paid </a:t>
            </a:r>
            <a:r>
              <a:rPr b="1" lang="en-US" sz="2800" spc="-1" strike="noStrike">
                <a:solidFill>
                  <a:srgbClr val="000000"/>
                </a:solidFill>
                <a:latin typeface="Helvetica Condensed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 interest on the $5,000                       you used to buy down the principal balance              on your primary mortgage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You traded </a:t>
            </a:r>
            <a:r>
              <a:rPr b="1" lang="en-US" sz="2800" spc="-1" strike="noStrike">
                <a:solidFill>
                  <a:srgbClr val="000000"/>
                </a:solidFill>
                <a:latin typeface="Helvetica Condensed"/>
              </a:rPr>
              <a:t>$23,304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                                                 of closed-end interest charges                                for an open-end finance charge on $6,500 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($54.17)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That is the magic of MMA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5638680" cy="5014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2666880" y="1517760"/>
            <a:ext cx="1067040" cy="574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3429000" y="1523880"/>
            <a:ext cx="990720" cy="577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4572000" y="1523880"/>
            <a:ext cx="990720" cy="577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5791320" y="1523880"/>
            <a:ext cx="990360" cy="577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1981080" y="3238560"/>
            <a:ext cx="54864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133720" y="838080"/>
            <a:ext cx="5148000" cy="5181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057400" y="1981080"/>
            <a:ext cx="1905120" cy="304920"/>
          </a:xfrm>
          <a:prstGeom prst="ellipse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057400" y="838080"/>
            <a:ext cx="5410080" cy="5146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343400" y="2895480"/>
            <a:ext cx="1143000" cy="30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124080"/>
            <a:ext cx="1143000" cy="228600"/>
          </a:xfrm>
          <a:prstGeom prst="ellipse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5638680"/>
            <a:ext cx="838080" cy="304920"/>
          </a:xfrm>
          <a:prstGeom prst="ellipse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43200" y="5486400"/>
            <a:ext cx="838080" cy="228600"/>
          </a:xfrm>
          <a:prstGeom prst="ellipse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3733920"/>
            <a:ext cx="1143000" cy="12027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57.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156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429000" y="4647960"/>
            <a:ext cx="1447920" cy="990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334120"/>
            <a:ext cx="1143000" cy="304560"/>
          </a:xfrm>
          <a:prstGeom prst="ellipse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5181480"/>
            <a:ext cx="1143000" cy="30492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5029200"/>
            <a:ext cx="1143000" cy="304920"/>
          </a:xfrm>
          <a:prstGeom prst="ellipse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4724280"/>
            <a:ext cx="1143000" cy="304920"/>
          </a:xfrm>
          <a:prstGeom prst="ellipse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24480" y="2438280"/>
            <a:ext cx="1143000" cy="304920"/>
          </a:xfrm>
          <a:prstGeom prst="ellipse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3581280"/>
            <a:ext cx="1218960" cy="1202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00.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156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43.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800240" y="2666880"/>
            <a:ext cx="1981080" cy="99072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2057400"/>
            <a:ext cx="1295640" cy="304920"/>
          </a:xfrm>
          <a:prstGeom prst="ellipse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33520" y="3830760"/>
            <a:ext cx="6476760" cy="2265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809880" y="457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 Condensed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9810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3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-MMA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54864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an amount: $136,0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-682560" y="271476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95280" y="1219320"/>
          <a:ext cx="7543440" cy="2314440"/>
        </p:xfrm>
        <a:graphic>
          <a:graphicData uri="http://schemas.openxmlformats.org/drawingml/2006/table">
            <a:tbl>
              <a:tblPr/>
              <a:tblGrid>
                <a:gridCol w="2102040"/>
                <a:gridCol w="2720520"/>
                <a:gridCol w="2720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MMA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Conventional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Starting ba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$136,0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Balance in 1 year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463920" y="2743200"/>
          <a:ext cx="2556000" cy="790560"/>
        </p:xfrm>
        <a:graphic>
          <a:graphicData uri="http://schemas.openxmlformats.org/drawingml/2006/table">
            <a:tbl>
              <a:tblPr/>
              <a:tblGrid>
                <a:gridCol w="25560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11.33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$45,1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283440" y="2743200"/>
          <a:ext cx="2555640" cy="790560"/>
        </p:xfrm>
        <a:graphic>
          <a:graphicData uri="http://schemas.openxmlformats.org/drawingml/2006/table">
            <a:tbl>
              <a:tblPr/>
              <a:tblGrid>
                <a:gridCol w="25556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3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$134,7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248520" y="1647720"/>
          <a:ext cx="2555640" cy="1095480"/>
        </p:xfrm>
        <a:graphic>
          <a:graphicData uri="http://schemas.openxmlformats.org/drawingml/2006/table">
            <a:tbl>
              <a:tblPr/>
              <a:tblGrid>
                <a:gridCol w="25556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$136,0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Balance in 4.7 year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990720" y="2743200"/>
          <a:ext cx="2437920" cy="790560"/>
        </p:xfrm>
        <a:graphic>
          <a:graphicData uri="http://schemas.openxmlformats.org/drawingml/2006/table">
            <a:tbl>
              <a:tblPr/>
              <a:tblGrid>
                <a:gridCol w="2437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Repayment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Total interest p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114800" y="3581280"/>
          <a:ext cx="3885840" cy="395280"/>
        </p:xfrm>
        <a:graphic>
          <a:graphicData uri="http://schemas.openxmlformats.org/drawingml/2006/table">
            <a:tbl>
              <a:tblPr/>
              <a:tblGrid>
                <a:gridCol w="3885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Condensed"/>
                        </a:rPr>
                        <a:t>Total interest savings: $89,5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4087800" y="236232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Condensed"/>
              </a:rPr>
              <a:t>$126,0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83920" y="236232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Condensed"/>
              </a:rPr>
              <a:t>$126,19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914040" y="2301480"/>
            <a:ext cx="8001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 algn="ctr">
              <a:spcBef>
                <a:spcPts val="624"/>
              </a:spcBef>
              <a:buNone/>
              <a:tabLst>
                <a:tab algn="l" pos="0"/>
                <a:tab algn="ctr" pos="1828800"/>
                <a:tab algn="ctr" pos="4122720"/>
                <a:tab algn="ctr" pos="6342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Condensed"/>
              </a:rPr>
              <a:t>Now invest the available $1,199.10 per month for the remainder of the 18.7 year term and realize a potential nest egg of:</a:t>
            </a:r>
            <a:endParaRPr b="0" lang="en-US" sz="25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261" name=""/>
          <p:cNvSpPr/>
          <p:nvPr/>
        </p:nvSpPr>
        <p:spPr>
          <a:xfrm>
            <a:off x="1728360" y="4338720"/>
            <a:ext cx="18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94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77640" y="4338720"/>
            <a:ext cx="18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619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28720" y="4338720"/>
            <a:ext cx="18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782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0948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Condensed"/>
              </a:rPr>
              <a:t>Your home is </a:t>
            </a:r>
            <a:r>
              <a:rPr b="1" lang="en-US" sz="3200" spc="-1" strike="noStrike">
                <a:solidFill>
                  <a:srgbClr val="000000"/>
                </a:solidFill>
                <a:latin typeface="Helvetica Condensed"/>
              </a:rPr>
              <a:t>paid off</a:t>
            </a:r>
            <a:r>
              <a:rPr b="0" lang="en-US" sz="3200" spc="-1" strike="noStrike">
                <a:solidFill>
                  <a:srgbClr val="000000"/>
                </a:solidFill>
                <a:latin typeface="Helvetica Condensed"/>
              </a:rPr>
              <a:t> in </a:t>
            </a:r>
            <a:r>
              <a:rPr b="1" lang="en-US" sz="3200" spc="-1" strike="noStrike">
                <a:solidFill>
                  <a:srgbClr val="000000"/>
                </a:solidFill>
                <a:latin typeface="Helvetica Condensed"/>
              </a:rPr>
              <a:t>11.3</a:t>
            </a:r>
            <a:r>
              <a:rPr b="0" lang="en-US" sz="3200" spc="-1" strike="noStrike">
                <a:solidFill>
                  <a:srgbClr val="000000"/>
                </a:solidFill>
                <a:latin typeface="Helvetica Condensed"/>
              </a:rPr>
              <a:t> years</a:t>
            </a:r>
            <a:r>
              <a:rPr b="1" lang="en-US" sz="3200" spc="-1" strike="noStrike">
                <a:solidFill>
                  <a:srgbClr val="000000"/>
                </a:solidFill>
                <a:latin typeface="Helvetica Condensed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Condensed"/>
              </a:rPr>
              <a:t>plus…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nancial Optomolog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7924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Helvetica Condensed"/>
              </a:rPr>
              <a:t>Option A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Helvetica Condensed"/>
              </a:rPr>
              <a:t>Option B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Years to pay off mortgage           11.3               29.6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Effective interest rate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    2.065%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         5.5%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nterest paid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   $45,000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  $143,000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954080" y="1206360"/>
            <a:ext cx="67327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 Condensed"/>
              </a:rPr>
              <a:t>Component #1</a:t>
            </a:r>
            <a:endParaRPr b="0" lang="en-US" sz="3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You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Helvetica Condensed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 Mortgag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Closed-End Loan: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Helvetica Condensed"/>
              </a:rPr>
              <a:t>The bank will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Helvetica Condensed"/>
              </a:rPr>
              <a:t>ONLY</a:t>
            </a:r>
            <a:r>
              <a:rPr b="0" i="1" lang="en-US" sz="2200" spc="-1" strike="noStrike">
                <a:solidFill>
                  <a:srgbClr val="000000"/>
                </a:solidFill>
                <a:latin typeface="Helvetica Condensed"/>
              </a:rPr>
              <a:t> apply monies once a month to this type of loan and will only apply a full payment to adjust principal balance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1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Your 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828440" y="835200"/>
            <a:ext cx="701028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Closed-End Loan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$200,000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Principal loan amoun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6% 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$    1,199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Monthly paymen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Helvetica Condensed"/>
              </a:rPr>
              <a:t>x       360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Months  (30 year loan)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$431,677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Total repaymen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Helvetica Condensed"/>
              </a:rPr>
              <a:t>-$200,000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Principal loan amount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Helvetica Condensed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Helvetica Condensed"/>
              </a:rPr>
              <a:t>$231,677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Total interest paid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1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Your 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18960" y="1523880"/>
            <a:ext cx="792468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Amortized Loan:  $200,000 @ 6% = $1,199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                       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Total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Helvetica Condensed"/>
              </a:rPr>
              <a:t>Years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Helvetica Condensed"/>
              </a:rPr>
              <a:t>Principal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Helvetica Condensed"/>
              </a:rPr>
              <a:t>Interest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Helvetica Condensed"/>
              </a:rPr>
              <a:t>Balance 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Helvetica Condensed"/>
              </a:rPr>
              <a:t>Equity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Helvetica Condensed"/>
              </a:rPr>
              <a:t>Payments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Mo. 1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199.10  1000.00    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Mo. 2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200.10    999.00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1 Yr.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210.33    988.77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197,543       2,457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14,389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5 Yr.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267.22    931.88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186,108     13,891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71,946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10 Yr.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360.44    838.66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167,371     32,628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143,891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21 Yr.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  696.23    502.87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100,573     99,436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elvetica Condensed"/>
              </a:rPr>
              <a:t>300,974</a:t>
            </a:r>
            <a:endParaRPr b="0" lang="en-US" sz="22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1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Your 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828440" y="1828800"/>
            <a:ext cx="65689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Traditional Prepayment Example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$1,199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First monthly payment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Helvetica Condensed"/>
              </a:rPr>
              <a:t>$5,000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Additional principal payment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$6,199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elvetica Condensed"/>
              </a:rPr>
              <a:t>Total first payment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1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Your 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1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Your 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600200" y="8380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Prepayment Savings Example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$195,000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New principal loan balance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6%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Interest rate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$    1,199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Monthly payment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359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Months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$231,677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Original interest paid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Helvetica Condensed"/>
              </a:rPr>
              <a:t>$203,373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New interest paid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$ 28,304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Helvetica Condensed"/>
              </a:rPr>
              <a:t>-$  5,000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Additional principal payment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r" pos="182880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1" lang="en-US" sz="2700" spc="-1" strike="noStrike">
                <a:solidFill>
                  <a:srgbClr val="006600"/>
                </a:solidFill>
                <a:latin typeface="Helvetica Condensed"/>
              </a:rPr>
              <a:t>$  23,304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Helvetica Condensed"/>
              </a:rPr>
              <a:t>Total</a:t>
            </a:r>
            <a:r>
              <a:rPr b="0" lang="en-US" sz="2700" spc="-1" strike="noStrike">
                <a:solidFill>
                  <a:srgbClr val="000000"/>
                </a:solidFill>
                <a:latin typeface="Helvetica Condensed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Helvetica Condensed"/>
              </a:rPr>
              <a:t>Savings</a:t>
            </a:r>
            <a:endParaRPr b="0" lang="en-US" sz="2700" spc="-1" strike="noStrike">
              <a:solidFill>
                <a:srgbClr val="000000"/>
              </a:solidFill>
              <a:latin typeface="Helvetica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56928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 Condensed"/>
              </a:rPr>
              <a:t>Conventional Banking</a:t>
            </a:r>
            <a:endParaRPr b="0" lang="en-US" sz="3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4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Refinance to lower interest rate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4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Apply more money to principal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4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Bi-weekly mortgage payment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 Condensed"/>
              </a:rPr>
              <a:t>MMA System</a:t>
            </a:r>
            <a:endParaRPr b="0" lang="en-US" sz="32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4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No refinancing necessary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4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Condensed"/>
              </a:rPr>
              <a:t>No alteration to current cash flow</a:t>
            </a:r>
            <a:endParaRPr b="0" lang="en-US" sz="26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1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Your 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981080" y="1054080"/>
            <a:ext cx="62755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 Condensed"/>
              </a:rPr>
              <a:t>Component #2</a:t>
            </a:r>
            <a:endParaRPr b="0" lang="en-US" sz="3200" spc="-1" strike="noStrike">
              <a:solidFill>
                <a:srgbClr val="000000"/>
              </a:solidFill>
              <a:latin typeface="Helvetica Condense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80808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Helvetica Condensed"/>
              </a:rPr>
              <a:t>Your 1</a:t>
            </a:r>
            <a:r>
              <a:rPr b="0" lang="en-US" sz="2400" spc="-1" strike="noStrike" baseline="30000">
                <a:solidFill>
                  <a:srgbClr val="808080"/>
                </a:solidFill>
                <a:latin typeface="Helvetica Condensed"/>
              </a:rPr>
              <a:t>st</a:t>
            </a:r>
            <a:r>
              <a:rPr b="0" lang="en-US" sz="2400" spc="-1" strike="noStrike">
                <a:solidFill>
                  <a:srgbClr val="808080"/>
                </a:solidFill>
                <a:latin typeface="Helvetica Condensed"/>
              </a:rPr>
              <a:t> Mortgage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Condensed"/>
              </a:rPr>
              <a:t>Advanced Line of Credit  (ALOC)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elvetica Condensed"/>
              </a:rPr>
              <a:t>Open-End Loan</a:t>
            </a:r>
            <a:endParaRPr b="0" lang="en-US" sz="2800" spc="-1" strike="noStrike">
              <a:solidFill>
                <a:srgbClr val="000000"/>
              </a:solidFill>
              <a:latin typeface="Helvetica Condensed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elvetica Condense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Helvetica Condensed"/>
              </a:rPr>
              <a:t>The Bank will apply money to this type of loan when received and adjust principal balance multiple times per month.</a:t>
            </a:r>
            <a:endParaRPr b="0" lang="en-US" sz="2400" spc="-1" strike="noStrike">
              <a:solidFill>
                <a:srgbClr val="000000"/>
              </a:solidFill>
              <a:latin typeface="Helvetica Condensed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8167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Component #2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-Your 1</a:t>
            </a:r>
            <a:r>
              <a:rPr b="0" lang="en-US" sz="1400" spc="-1" strike="noStrike" baseline="30000">
                <a:solidFill>
                  <a:srgbClr val="808080"/>
                </a:solidFill>
                <a:latin typeface="Trebuchet MS"/>
              </a:rPr>
              <a:t>st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Mortgag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ALO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01:07:49Z</dcterms:created>
  <dc:creator>Don Jorgensen</dc:creator>
  <dc:description/>
  <dc:language>en-US</dc:language>
  <cp:lastModifiedBy>richard</cp:lastModifiedBy>
  <dcterms:modified xsi:type="dcterms:W3CDTF">2006-09-04T23:43:05Z</dcterms:modified>
  <cp:revision>105</cp:revision>
  <dc:subject/>
  <dc:title>Slide 1</dc:title>
</cp:coreProperties>
</file>